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81B5-7853-45D2-AFEA-D2C6885F1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2E63-6A41-4D0E-A777-978F05E1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6463-BB83-4D68-A087-D86F0888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7531-158D-4826-BFB4-FB3A64627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21C8-4F4D-4B2A-BC58-C755C1DB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D34F4-EF4E-4BE4-A7EF-299294AF6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E322-117A-42AA-9362-BF471A22F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CDA3-3FB2-4067-871F-1608CA65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7917-3D94-4E30-AEB4-1C1DCF2D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3E4A-E5E3-471B-A36F-2F44DBF4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D653-CA3A-4055-B681-3B3A1D96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2308-5295-4A77-BF55-DEC772F7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A23C-2B84-43EC-B283-13B9A419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A3F3E-924D-4D05-BB11-67C48703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3F542-F61A-4187-8966-63C22BA9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70D85-E5DD-4F9B-BDA2-C4C2DEB0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E0B8F-5729-4C51-99E0-1B09415A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4CA2-0D2E-40B7-9977-8A7568954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A6D-F35A-486E-985D-8257F751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4552-759D-412D-8CC7-9017CC79D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7BA6-B17E-489D-9A67-665C84BC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5E31-E598-4AD5-89B9-46707D58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7C50-0992-4E04-9578-855E3706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B06A-B570-4EAD-A83C-88D9DFAB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7FE9-CDFC-4603-9D3B-DA17DED7194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D4DD-9EF5-45C9-9D68-7D982EFA1F6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5582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у беременных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94920" y="4508280"/>
            <a:ext cx="828036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Пороки сердца и беременност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ротивопоказания к  вынашиванию беременности у женщин с приобретенными пороками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8000" y="3933360"/>
            <a:ext cx="8280360" cy="276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астота поражения клапанов сердц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трального клапана – 88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ортального – 44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ехстворчатого – 10-16% (М.М. Шехтман 1999г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Относительные противопоказания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Латентно текущий ревмокард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 Первичный или рецидивирующий ревмокардит в течение последних 12 — 24 ме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Митральный стеноз с НК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, или с признаками легочной гипертензии, или с наличием в анамнезе приступов сердечной аст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Другие резко выраженные "чистые", сочетанные и сложные пороки сердца без явных признаков нарушения гемодинамики или при наличии в анамнезе нарушения кровообращени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Поражение миокарда с редкими и недлительными приступами пароксизмальной тахикардии, с полной атрио-вентрикулярной блокадой с частотой ритма не реже 40 уд/ мин; с блокадой левой ножки пучка Гиса; с частой желудочковой иди суправентрикулярной экстрасистолией; с наличием в анамнезе нарушения кровообращения НК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.(З.Ш.Гилязутдинова, 199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Абсолютные противопоказания</a:t>
            </a:r>
            <a:r>
              <a:rPr b="0" i="1" lang="en-US" sz="32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ктивно текущий ревмокарди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Первичный или рецидивирующий ревмокардит в течение последних 12 месяце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Митральный стеноз с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 или наличие в анамнезе повторных случаев отека легких нарушений кровообращения     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 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 Другие "чистые", комбинированные и сложные пороки сердца с Н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с явлениями легочной гипертензии; или наличием в анамнезе нарушения кровообращения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А сг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5. Поражение миокарда с сердечной недостаточностью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 или с наличием в анамнезе случаев с Н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"А", мерцательной аритмией или пароксизмами трепетания и мерцания предсердий; с пароксизмами тахикардии с явлениями сердечно-сосудистой недостаточности; с политонной или частой предсердной экстрасистолией; с нестабильной атриовентрикулярной блокадой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.; с полной атриовентрикулярной блокадой с частотой ритма менее 40 уд/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н или приступами МЭ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6. Неэффективная комиссуротомия или рестеноз с Н-1. (З.Ш.Гилязутдинова, 199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Беременность у женщин с врожденными пороками сердц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68000" y="1557000"/>
            <a:ext cx="828036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 врожденным порокам сердца относят около 50 нозологических аномалий развития сердечно-сосудистой систем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Частота врожденных пороков у беременных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фект межпредсердной перегородки – 23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ефект межжелудочковой перегородки -18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крытый аортальный проток – 23%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ноз легочной артерии – 11%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етрада Фалло – 1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еноз устья аорты -4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арктация аорты – 2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ругие пороки – 8%   (М.М. Шехтман 1996г)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-2116800" y="3245760"/>
            <a:ext cx="182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Абсолют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362800" cy="18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Абсолютные противопоказания к вынашиванию беременности у женщин с врожденными пороками сердца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9280" y="2133360"/>
            <a:ext cx="8964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о сбросом крови слева  направо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ДМПП, ДМЖП, ОАП с НК –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ади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о сбросом крови справа налево и с артериальной гипоксемией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тетрада Фалло, пентада Фалло, транспозиция магистральных сосудов, комплекс Эйзенменгера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Пороки с препятствием кровотоку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выраженный стеноз легочной артерии, выраженный стеноз аорты, коарктация аорты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 - 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ерывание беременности считается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обязательным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p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наличии одного из абсолютных противопоказа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вух относительных противопоказа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дного из  относительных противопоказаний в сочетании с двумя отягощающими факторам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этих случаях необходимость прерывания беременности преподносится как решение, не имеющее альтернативы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ерывание беременности </a:t>
            </a:r>
            <a:r>
              <a:rPr b="0" i="1" lang="en-US" sz="4000" spc="-1" strike="noStrike">
                <a:solidFill>
                  <a:srgbClr val="ffffcc"/>
                </a:solidFill>
                <a:latin typeface="Tahoma"/>
              </a:rPr>
              <a:t>настоятельно рекомендуетс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аличии одного из относительных противопоказаний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наличия двух и более отягощающих факторо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сли больная категорически настроена на донашивание беременности, необходимо повторное стационарное обследование на сроках 16 — 20 недель беременности для окончательного решения вопрос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Отягощающие факторы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личие сопутствующей патологии (хр.очаги инфекции, анемия, эндокринопатия и др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благоприятные психоэмоциональные факторы (нежеланная беременность, семейные неблагополучия, пессимистическое отношение к беременности, наличие в семье маленьких детей или лиц, нуждающихся в уход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рицательное отношение к лечению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переносимость сердечных и противоревматических препара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раст – менее 20лет и старше 30ле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Беременность у женщин после перенесенной операции на сердце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еременность допускается при полной хирургической коррекции порока и отсутствии рецидива (время наступления беременности после операции – не ранее 1,5-2 лет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виду высокого риска тромбоэмболических осложнений беременность у женщин с  искусственными клапанными протезами противопоказан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ные с искусственными клапанными протезами вынуждены систематически принимать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антикоагулян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параты непрямого действия (фенилин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инкумар и др.) беременным противопоказаны, так как они, проникая в кровь плода, могут вызвать у него внутричерепное кровоизлияние, врожденную слепоту, умственную отсталость, самопроизвольный аборт 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отказе прерывания беременности таких больных переводят на прямые антикоагулянты (гепарин и его производны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Методы прерывания беременности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рывание беременности на ранних сроках производится методом выскабливания полости матки или вакуум-аспирации с обязательным проведением премедикации и обезболив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поздних сроках беременности прерывание ее осуществляется путем влагалищного кесарева сечения (до 26 недель) или абдоминального кесарева сечения (после 26 нед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4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Степени риска осложнений беременности и родов у женщин с пороками сердца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Л.В.Ванина (1972) 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7560"/>
            <a:ext cx="822960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 рис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тносятся беременные с пороками сердца без выраженных признаков сердечной недостаточности и обострения ревматиз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относятся беременные с начальными симптомами сердечной недостаточности и активной фазой ревматизма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я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Степени риска осложнений беременности и родов у женщин с пороками сердца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Л.В.Ванина (1972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43200"/>
            <a:ext cx="8229600" cy="50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иска относятся беременные с  признаками  правожелудочковой недостаточности , наличие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 активности ревматизма,  возникшей мерцательной аритмией, легочной гипертензи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степен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– беременные с признаками левожелудочковой или тотальной недостаточности, наличием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и активности ревматизма, кардио- или атриомегалией,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ительно существующей мерцательной аритмией, с тромбоэмболи -ческими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явлениями, легочной гипертензией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ад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Особенности течения беременности у женщин с пороками сердца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нние и поздние гестоз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: гипоксия плода, ЗВУР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сокая  перинатальная заболеваемость и смертность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1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 – 50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  <a:ea typeface="Arial"/>
              </a:rPr>
              <a:t>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роза прерывания беременности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%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 –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родовые гнойно-септические заболев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Особенности течения болезни сердца при беременности</a:t>
            </a: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острение ревматического процесса, миокарди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компенсация порока (появление или усугубление степени тяжести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явление нарушений сердечного рит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Тромбоэмболические осложн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Особенности течения родов: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номалии родовой деятельности Прогрессирование гипоксии плода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РП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овотечение гипотоническое или чаще коагулопатическое (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7%,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 – 3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ГС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 стороны ССС – отек легких, нарушение сердечного ритма, тромбоэмбол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Родоразрешение женщин с  заболеванием сердца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1. Родоразрешение через естественные родовые пут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2. Родоразрешение через естественные родовые пути с выключением потужного периода (акушерские щипцы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3.Родоразрешение путем кесарева сеч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Родоразрешение через естественные родовые пути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компенсации кровообращ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начальных стадиях недостаточности, ликвидированных к сроку род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 отсутствии акушерских показа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96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Родоразрешение с выключением потужного пери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 у первородящих 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 у повторнородящих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 ст. во время беременности, перешедшей к сроку родов 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ст.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нарушении кровообращения во время род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риступах коронарной недостаточности во время беременности или во время родов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высокой легочной гипертензи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мерцательной аритм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компенсированном пороке, если второй период родов затягивается дольше 30-40 мин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Гемодинамические исследования показывают, что по сравнению с другими методами родоразрешения наименьшие сдвиги в системе кровообращения происходят именно при родах с выключением поту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52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Частота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выявления болезней сердца у беременных колеблется от 0,4% до 4,7%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 структуре сердечно-сосудистых заболеваний у беременных частот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обретенных пороков - 75-90%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врожденных – 3-10%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миокардитов, кардиопатий и ишемической болезни – 4%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., сохранившейся к сроку родов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септическом эндокардите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острой сердечной недостаточности, наблюдавшейся во время беременности или развившейся в родах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высокой легочной гипертензии, сочетающейся с недостаточностью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-Ш с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мбинированная недостаточность аортального и митрального клапанов;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 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продолжение):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итральный стеноз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епен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лапанные протезы сердц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ромбоэмболии, перенесенные во время беременности;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сложнения или неудовлетворительный эффект хирургической коррекции пороков сердца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ек легких, перенесенный во время беременности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арктация аорты, в том числе и после хирургической коррекц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20360" y="287280"/>
            <a:ext cx="77756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Кесарево сечение противопоказано: (Б.Н.Серов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)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яжелая декомпенсация при кардиомегалии, циррозе печен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тяжелом расстройстве сердечного ритм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сложных врожденных пороках синего типа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крайней степени легочной гипертензии. Таким больным беременность противопоказана, а родоразрешение лучше производить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ловиях гипербарической оксигенации. Прогноз  неблагоприятны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Ведение родов у беременных с пороком сердца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оды у женщин с декомпенсацией кровообращения лучше вести в полусидячем положении  для сведения к минимуму увеличения объема крови за счет притока из нижних конечностей. Полусидячее положение позволяет также облегчить дыхание больной при наличии застоя крови в легких. Щадящим является также положение лежа на боку для замедления декомпрессии нижней полой вены (ведущей к увеличению преднагрузк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)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роцессе родов , кроме оценки акушерской ситуации, необходимо определение частоты пульса, дыхания и артериального давления каждые 30-60 мин(лучше кардиомонитор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ждые 1-2 ч следует производить аускультацию легких для  обнаружения появления хрип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больных с  аритмией показана ЭКГ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часовое измерение количества мо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45800"/>
            <a:ext cx="82296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родах необходима ранняя амниотом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но тщательное обезболивание всех периодов родов(методом выбора является ПД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казана профилактика кровотечения в конц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, 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 раннем послеродовом  периодах.( метилэргометрин предпочтительнее, так как он способствует улучшению кровоснабжения легких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1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го серьезного внимания требует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третий период родов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обусловлено быстрой мобилизацией жидкости из   внесосудистого пространства, а также резким оттоком крови из нижних конечностей, что связано с опорожнением матки и исчезновением сдавления нижней полой ве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органах брюшной полости происходит депонирование кров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 избежание быстрого переполнения легких кровью и отека легких после родов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 следует класть тяжесть на живо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родильницы при пороках сердц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провождающихся легочной гиперволемией (митральный стеноз, комплекс Эйзенменгера, септальны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фекты)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пороках с узкой легочной артерией (стеноз ее, тетрада Фалло) для предотвращения острой правожелудочковой недостаточности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 также при септальных дефектах и при открытом артериальном протоке, чтобы не создавать условий для сброса крови справа налево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ороках сердца с увеличенным сердечным выбросом (аортальная недостаточность, митральная недостаточность), наоборот, после родов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еобходимо положить тяжесть на живот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для уменьшения депонирования крови и обеспечения ее достаточного притока к сердцу во избежание гиповолемии, гипоксии мозга и коллапс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слеродовый период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зависимо от способа родоразрешения после родов существуют два критических периода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первых часов до 3-5-го дня, когда нарастают явления сердечной недостаточ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 концу первой недели после родов, когда увеличивается возможность обострения ревматизм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вязи с этим выписка женщин из родильного дома разрешается после ликвидации признаков недостаточности кровообращения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(2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д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тсутствии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мпенсации кровообращения в течение 3-4 нед. больная должна быть переведена в терапевтический стационар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теринская смертность при заболеваниях органов кровообращения достигает 1,2-2,5% (В.Н.Серов и соав.1989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 структуре экстрагенитальных заболеваний, послуживших причиной материнской смертности – болезни сердца составляют – 28,5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адии кормление ребенка грудью противопоказано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ослеродовом периоде показаны а/б терапия и профилактика тромбоэмболических осложнен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еабилитационные мероприятия проводит на дому участковый терапевт, под наблюдение которого выписывается больна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</a:t>
            </a:r>
            <a:br>
              <a:rPr sz="4400"/>
            </a:b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414972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ртериальная гипертенз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настоящее время 25-30% населения России страдает гипертонической болезнь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астота гипертензивных состояний  у беременных колеблется от 7до 29%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 данным ВОЗ с гипертензией связано 20-33% случаев материнской смерт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ГБ у большинства беременных обычно существует до беременности, но может проявиться или впервые быть выявлена во время берем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Течение ГБ во время беременности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Д подвержено определенным колебаниям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 начале беременности и в конце ее АД повышаетс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в середине -  АД понижа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течение ГБ наблюдаются   кризы (в 24%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исходит усугубление степени тяжести Г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вышается частота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церебральной патологии (инсульт, нарушение мозгового кровообращени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изменения сосудов глазного дна (гипертоническая ангиопатия) и гипертонической ретинопатии (отечность и кровоизлияния в сетчатку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- развития нефроангиосклер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Осложнения беременности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(М.М.Шехтман, 1996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)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естоз различной степени тяжести (у 36-86% беременных с ГБ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амопроизвольный аборт (5,5%) и преждевременные роды ( 23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 со ЗВУР (10-20%), в/утробная асфиксия плода (2,6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Ведение беременных с ГБ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964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еременные с ГБ должны находиться на  учете у терапев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астота посещения – обычна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местное ведение с терапевтом – 1 раз в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ловине беременности, во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оловине – 2 раза в месяц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улист – 2-3 раза , затем по показания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ъем исследований:  ЭКГ; УЗИ, КТГ, ДМИ пл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роки плановых госпитализаций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 госпитализация при наличии ГБ с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 ст. до 10нед для решения вопроса о вынашивании беременн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госпитализация дородовая в 37-38нед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ГБ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 –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 – госпитализация до срока прерывания или родоразрешения (при отказе женщины прервать беременность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отсутствии эффекта от амбулаторного лечения, присоединении гипоксии плода, гестоза, угрозы прерывания и т.д. – экстренная госпитализац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Степени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адии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стадии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епень риска – беременные с гипертонической болезнью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,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тадии и злокачественной гипертони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и риска беременность протекает  удовлетворительн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гестоз развивается у 2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преждевременные роды у 12%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кризы, стенокардия  - очень редк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еменность при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тепени риска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опустим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II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епени риска частота осложнений беременности значительно возрастае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гестоз  развивается у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преждевременные роды у каждой пято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антенатальная гибель плода у каждой  пято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гипертонические кризы , коронарная недостаточность  развиваются част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 стабильно высокое артериальное давление, несмотря на ле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еременность в этой группе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ежелательн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II</a:t>
            </a: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степень риска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8930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епени риска возникает еще больше осложнений.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пертензия  стабильна, она с трудом поддается воздействию гипотензивных средств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кольку для гипертонической болезн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адии характерно декомпенсированное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ояние почек (уремия), мозга (нарушение мозгового кровообращения), сердца (недостаточность кровообращения), частота осложнений беременности более 5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и этой степени риска беременность абсолютно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ротивопоказан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атеринская смертность отмечается именно в этой группе больн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Акушерская тактика у беременных с заболеваниями сердца  определяется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920" y="2205000"/>
            <a:ext cx="87138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личием и степенью недостаточности кровообращ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тивностью ревматиз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ечение ГБ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ечение ГБ включает назнач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едативных средст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ипотензивных препаратов (альфа-метилдофа, антагонисты кальция, антагонисты кальциевых каналов, альфа и бетта-адреноблокаторы, спазмалитические средств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имптоматические препараты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Осложнения в родах у беременных с ГБ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номалия родовой дея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рессирование гипоксии пл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грессирование гесто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угубление гипертензии в родах, криз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излияние в головной мозг, на глазное дн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слойка сетчат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ение мозгового кровообра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течен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Ведение родов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оды консервативно-выжидательн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казана ранняя амниотом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водится почасовой контроль АД, ЧС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стояние плода оценивается с помощью КТГ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родах продолжается гипотензивная, седативная терапи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язательным является тщательное обезболивание (методом выбора является перидуральная анальгезия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потугах при повышении АД выше 160 мм рт ст показана управляемая нормотония ганглиоблокаторами короткого действия. При отсутствии эффекта -  выключение потуг наложением акушерских щипц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филактика кровотечении проводится одномоментно и пролонгировано  (на 2-3ч) окситоцином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и появлении осложнений – переход на оперативное родоразреш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Показания к кесареву сечению у беременных с ГБ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Б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ст. тяже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окая гипертенз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четание ГБ с тяжелым гестоз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яжелая гипоксия плода и ЗВУ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НРП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тройство мозгового кровообраще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излияния, отек  на глазном дне и отслойка сетчатк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Заболевания сердечно-сосудистой системы у беременных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4076280"/>
            <a:ext cx="8229600" cy="20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Артериальная гипотензия и беремен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Артериальная гипотензия у беременных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8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рушение сосудистого тонуса носит характер артериальной гипотензии при АД ниже 100/60 мм. рт с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акое давление встречается у 12% беременны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Ведение беременных с артериальной гипотензией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ртериальная гипотензия не является противопоказанием к прерыванию беременно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та наблюдения и объем обследования как при физиологической  беремен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ечение проводится амбулаторно при субкомпенсированной стадии. Лечение при декомпенсированной стадии проводят в стационар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лечении используют лечебную физкультуру, водные процедуры, фитотерапия , физиотерап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Осложнения беременности при артериальной гипотензи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соединение гестоза (25%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роза прерывания (в 3-5 раз чаще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ПН ( гипоксия плода и ЗВУР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гипотензии на 17-24нед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силение клинических проявлений гипотензии (слабость, головокружение, обмороки, потливость, ослабление памяти и др) во время беремен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Осложнения родов 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атологический прелиминарный пери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рушение сократительной деятельности матки (за счет истощения энергетических ресурсов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своевременное излитие околоплодных во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ипоксия плод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ровотечения  (гипотонические и коагулопатически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есарево сечение проводится по акушерским показани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Диспансерное наблюдение в женской консультации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зависимо от состояния беременных госпитализируют 3 раза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8-10 нед. беременности для уточнения диагноза и решения вопроса о возможности ее сохран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8-29 нед. -в период наибольшей гемодинамической нагрузки на сердц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 3 нед. до срока родов - для подготовки к ни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астота посещения ж/к 1 раз в 2 недели, после 30нед – 1раз в неделю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ополнительно к стандартным методам обследования беременным с заболеваниями ССС проводя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б/х анализ крови с ревмопробам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ЭКГ,  УЗИ сердца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рентгенологическое исследование органов грудной клетки (после 10нед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динамическое наблюдение терапевта-кардиолога (1 раз в 1-3нед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санация очагов хронической инфекци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оценка состояния фетоплацентарного комплекса (УЗИ, ДМИ, КТГ в динамик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Показания для </a:t>
            </a:r>
            <a:r>
              <a:rPr b="1" i="1" lang="en-US" sz="3200" spc="-1" strike="noStrike">
                <a:solidFill>
                  <a:srgbClr val="ffffcc"/>
                </a:solidFill>
                <a:latin typeface="Tahoma"/>
              </a:rPr>
              <a:t>госпитализации</a:t>
            </a: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 в любом сроке беременности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явление признаков недостаточности кровообращен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бострение ревматизм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сложнения беремен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9647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недостаточности кровообращения или обострения ревматизма в ранние сроки беременности необходимо 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рвать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еременность, поскольку лечебные средства,  примененные в эти сроки, неблагоприятно влияют на развитие плода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сле 12 нед. лечение возможно. При отсутствии эффекта от медикаментозной терапии показано кардиохирургическое леч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операция не может быть произведена, возникает необходимость </a:t>
            </a: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прерывания беременн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3T11:06:36Z</dcterms:created>
  <dc:creator>Iggy</dc:creator>
  <dc:description/>
  <dc:language>en-US</dc:language>
  <cp:lastModifiedBy> </cp:lastModifiedBy>
  <dcterms:modified xsi:type="dcterms:W3CDTF">2007-02-08T06:22:14Z</dcterms:modified>
  <cp:revision>70</cp:revision>
  <dc:subject/>
  <dc:title>Заболевания сердечно-сосудистой системы  при беременности </dc:title>
</cp:coreProperties>
</file>