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439F-6978-46C7-BE20-A253640A8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259D-6B02-489F-8982-727D60260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54B3-E928-40B0-80F5-704B6BD09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8FB9-55D2-42DC-A377-1B4EE0585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2645-F6CD-4EC9-BDEF-0C6F987D0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9220-98C3-4AE4-BE07-4E7A7017C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7F69-CE26-4ABC-834B-12639F296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DCE2-A2C0-41DF-9D38-CE01E53E9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5061-F287-47B5-A14D-CE0EFD5F3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A0CD-27A0-4130-A935-634F26668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B685-4073-4941-93DA-283A47B1B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3E82-DBA3-4CAB-9CB9-4082E6AA1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AA5B2-A543-4338-B2D8-40FE3BB16BE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Неотложная  Кардиология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-15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ЧАСТО ВСТРЕЧАЮЩИЕСЯ ОШИБКИ ТЕРАПИИ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комендации парентерального введения клонидина и в/м введения сульфата магния, а также  недифференцированного в зависимости от типа ГК лечения (дибазол в/в или в/м, обзидан в/в, дроперидол в/в) вызывают серьезные возражен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ирокое использование клонидина ограничивает плохая предсказуемость эффекта (от развития коллапса до возможного  повышение АД за счет первоначальной стимуляции периферических альфа-адренорецепторов) и высокая вероятность развития побочных эффектов (включая сухость во рту, сонливость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/м введение сульфата магния не только крайне болезненно и некомфортно для пациента, но и чревато развитием осложнений, наиболее неприятное из которых – образование инфильтратов в месте введен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Часто встречающиеся ошибки терапии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295280" y="1828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базол не обладает выраженным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ипотензивным действием, его применение оправдано только при подозрении на нарушение мозгового кровообращен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нутривенное введение обзидана требует от врача определенного навыка и чревато серьезными осложнениями, а дроперидол показан только при выраженном возбуждении больных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менение препаратов, не обладающих гипотензивным действием (анальгина, димедрола, но-шпы, папаверина и т.п.) при ГК не оправдано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Цель терапии ГК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озированное снижение АД на 20 - 30% в течение 2 - 6 час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3760" y="4724280"/>
            <a:ext cx="687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Рекомендации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merican College of Cardiology, 199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-228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Алгоритм выбора терапии при ГК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997720" y="685800"/>
            <a:ext cx="31417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ипертонический кри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384840" y="1447920"/>
            <a:ext cx="3552120" cy="4406760"/>
            <a:chOff x="384840" y="1447920"/>
            <a:chExt cx="3552120" cy="4406760"/>
          </a:xfrm>
        </p:grpSpPr>
        <p:sp>
          <p:nvSpPr>
            <p:cNvPr id="128" name=""/>
            <p:cNvSpPr/>
            <p:nvPr/>
          </p:nvSpPr>
          <p:spPr>
            <a:xfrm>
              <a:off x="384840" y="1447920"/>
              <a:ext cx="3498480" cy="916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Без клинических признаков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поражения органов-мишеней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и неврологической симптоматики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375560" y="2666880"/>
              <a:ext cx="2507760" cy="6426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Состояние пациента не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вызывает опасений.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918720" y="3657600"/>
              <a:ext cx="3018240" cy="1465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Терапия пероральными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гипотензивными ЛС, в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случае тревожности или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панической атаки допустимо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применение анксиолитиков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994320" y="5486400"/>
              <a:ext cx="2889000" cy="368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Контроль через 6 - 24 часов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5185080" y="1371600"/>
            <a:ext cx="3713400" cy="4917240"/>
            <a:chOff x="5185080" y="1371600"/>
            <a:chExt cx="3713400" cy="4917240"/>
          </a:xfrm>
        </p:grpSpPr>
        <p:sp>
          <p:nvSpPr>
            <p:cNvPr id="133" name=""/>
            <p:cNvSpPr/>
            <p:nvPr/>
          </p:nvSpPr>
          <p:spPr>
            <a:xfrm>
              <a:off x="5185080" y="1371600"/>
              <a:ext cx="3713400" cy="1465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Неврологическая симптоматика,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Ретинопатия (нарушение зрения),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Боль в груди, Отек легких,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Эклампсия, Катехоламиновый криз,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Почечная недостаточность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204880" y="3162240"/>
              <a:ext cx="339480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Состояние пациента </a:t>
              </a: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тяжелое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199840" y="4076640"/>
              <a:ext cx="308556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Неотложная в/в терапия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204880" y="5829120"/>
              <a:ext cx="2449800" cy="4597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Госпитализация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3942720" y="6491160"/>
            <a:ext cx="520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Рекомендации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American College of Cardiology, 199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92160"/>
            <a:ext cx="91440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ГК без клинических признаков поражения органов-мишеней и неврологической симптоматики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3657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81480" y="1143000"/>
            <a:ext cx="3962520" cy="56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ffff"/>
                </a:solidFill>
                <a:uFillTx/>
                <a:latin typeface="Times New Roman"/>
              </a:rPr>
              <a:t>Российские реалии - в/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1. Дибазо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2. Дротавери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3. Папавери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4. Метамизо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5. Димедро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6. Сульфат маг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7. Клониди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8. Дроперидо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Госпитализация в стационар либо с сохраняющейся АГ либо с клиникой побочных эффектов применения лекарственных средст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1143000"/>
            <a:ext cx="5181480" cy="52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Am.Coll.Cardiology, 1999 - per 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. Нифедипин 5-20 м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Times New Roman"/>
              </a:rPr>
              <a:t>2.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9900"/>
                </a:solidFill>
                <a:latin typeface="Times New Roman"/>
              </a:rPr>
              <a:t>Лабеталол 200-1200м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3. Каптоприл 25-50 мг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. Клонидин 01-04мг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5. Фуросемид 40-80 м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6. Диазепам 5-10 мг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er 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ли 10 мг в/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Амбулаторное наблюд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Кормагнезин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s 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Магнезия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Хорошая переносимост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добство дозирова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«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tűrproducht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лохая переносимост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сокая концентрац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меси стекла и асбест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1460160"/>
            <a:ext cx="43434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неврологическая симптоматика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2362320"/>
            <a:ext cx="4114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imes New Roman"/>
              </a:rPr>
              <a:t>Нитропруссид </a:t>
            </a: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Na </a:t>
            </a:r>
            <a:r>
              <a:rPr b="0" lang="ru-RU" sz="2000" spc="-1" strike="noStrike">
                <a:solidFill>
                  <a:srgbClr val="ff9900"/>
                </a:solidFill>
                <a:latin typeface="Times New Roman"/>
              </a:rPr>
              <a:t>в/в 0,25-10 мкг/кг/ми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imes New Roman"/>
              </a:rPr>
              <a:t>Лабеталол 2-4 мг/ми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imes New Roman"/>
              </a:rPr>
              <a:t>Урапидил 12,5-25 мг болюс, инфузия 5-40 мг/ча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imes New Roman"/>
              </a:rPr>
              <a:t>Никардипин 5-15 мг/ча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080" y="1295280"/>
            <a:ext cx="356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Am.Coll.Cardiology, 199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724280" y="1828800"/>
            <a:ext cx="3962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Эклампс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48320" y="2362320"/>
            <a:ext cx="44956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imes New Roman"/>
              </a:rPr>
              <a:t>Гидралазин 10-20мг в/в, или 20-50 мг в/м каждые 4-6 часо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агния сульфат 1-2,5 г в/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69640" y="380880"/>
            <a:ext cx="33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СЛОЖНЕННЫЙ Г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5105520"/>
            <a:ext cx="9144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ffff"/>
                </a:solidFill>
                <a:uFillTx/>
                <a:latin typeface="Times New Roman"/>
              </a:rPr>
              <a:t>Российские реалии - в/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Дибазол, Дротаверин, Папаверин, Метамизол, Димедрол, 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Сульфат магния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, Клонидин, Дроперидо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160" y="2193480"/>
            <a:ext cx="281916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Отек легких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2742840"/>
            <a:ext cx="46483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imes New Roman"/>
              </a:rPr>
              <a:t>Нитропруссид </a:t>
            </a: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Na </a:t>
            </a:r>
            <a:r>
              <a:rPr b="0" lang="ru-RU" sz="2000" spc="-1" strike="noStrike">
                <a:solidFill>
                  <a:srgbClr val="ff9900"/>
                </a:solidFill>
                <a:latin typeface="Times New Roman"/>
              </a:rPr>
              <a:t>в/в 0,25-10 мкг/кг/ми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итроглицерин 5-100 мг/ми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Фуросемид 20-80 мг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орфин 2,5-10 мг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Эналаприлат 0,625-1,25 мг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нгаляция О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706120" y="1523880"/>
            <a:ext cx="356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Am.Coll.Cardiology, 199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419720" y="2743200"/>
            <a:ext cx="47242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итроглицерин 5-100 мг/ми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орфин 2,5-10 мг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imes New Roman"/>
              </a:rPr>
              <a:t>Эсмолол 50-300мкг/кг/ми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64440" y="2133720"/>
            <a:ext cx="357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Острый коронарный синдро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5181480"/>
            <a:ext cx="9144000" cy="15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ffff"/>
                </a:solidFill>
                <a:uFillTx/>
                <a:latin typeface="Times New Roman"/>
              </a:rPr>
              <a:t>Российские реал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Нитроглицерин, Морфин,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Дибазол, Дротаверин, Папаверин, Метамизол, Димедрол, Сульфат магния, Клонидин, Дроперидо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17360" y="380880"/>
            <a:ext cx="33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СЛОЖНЕННЫЙ Г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Алгоритм лечения ГК на догоспитальном этапе</a:t>
            </a:r>
            <a:br>
              <a:rPr sz="2800"/>
            </a:b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(Федеральное руководство для врачей по использованию лекарственных средств, выпуск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I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, 2001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2520" y="1066680"/>
            <a:ext cx="47242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Гипертоническая энцефалопат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ифедипин п/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ибазол в/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и необходимости – эуфиллин, магния сульфат, диазепам, маннитол и фуросемид, дексаметазо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ОНМК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ифедипин п/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агния сульфат в/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ибазол в/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Острая сердечная недостаточност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итроглицерин 5-100 мг/ми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Фуросемид (лазикс) (до 200 мг) в/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Расслаивающая аневризма аорт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трия нитропруссид (нифедипин)+препранолол или верапами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3429000"/>
            <a:ext cx="41148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-457200" y="3962520"/>
            <a:ext cx="449568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04920" y="1828800"/>
            <a:ext cx="3124080" cy="25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ипокинетический: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нифедипин 5-20 мг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аптоприл 25-50 мг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иперкинетический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к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лонидин 01-04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мг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пропранолол 20-40 мг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1219320"/>
            <a:ext cx="2476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Неосложненный ГК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8600" y="4648320"/>
            <a:ext cx="3657600" cy="22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Выраженная вегетативная, психоэмоциональная окраск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иазепам п/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2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Отмена клонидин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лонидин п/я или в/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Показания к госпитализации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(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циональны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е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рекомендаци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и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по диагностике и лечению артериальной гипертензии, 2001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19040" y="21337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К, не купирующийся на догоспитальном этап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К с выраженными проявлениями гипертонической энцефалопати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ложнения, требующие интенсивной терапии и постоянного врачебного наблюдения (инсульт, субарахноидальное кровоизлияние, остро возникшие нарушения зрения, отек легких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Гипертонический криз (ГК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осложненный гипертензивный (гипертонический) криз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зкое внезапное повышение АД до индивидуально высоких величин при минимальной субъективной и объективной симптоматик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ложненны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й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гипертензивны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й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криз, или собственно гипертензивны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й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гипертоническ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й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из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-  внезапное повышение АД п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и наличии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ыраженных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проявлений с субъективными и объективными признаками церебральных, сердечно-сосудистых и вегетативных нарушен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Мерцательная аритмия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Алгоритм принятия решения при вызове к пациенту с мерцательной аритмией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095560" y="1447920"/>
            <a:ext cx="4952880" cy="6094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ерцательная аритм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447920" y="2666880"/>
            <a:ext cx="2743200" cy="4572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стоянна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2666880"/>
            <a:ext cx="2743200" cy="45720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ароксиз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3657600"/>
            <a:ext cx="1600200" cy="68580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ахисистол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90920" y="3657600"/>
            <a:ext cx="1600200" cy="68580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ормосистол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76920" y="3657600"/>
            <a:ext cx="1600200" cy="68580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емодинами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табильна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086600" y="3657600"/>
            <a:ext cx="1600200" cy="68580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емодинами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естабильна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5029200"/>
            <a:ext cx="1523880" cy="68580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игоксин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666880" y="5029200"/>
            <a:ext cx="1524240" cy="68580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Неотложна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терапия не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оказан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76920" y="5029200"/>
            <a:ext cx="1523880" cy="685800"/>
          </a:xfrm>
          <a:prstGeom prst="rect">
            <a:avLst/>
          </a:prstGeom>
          <a:blipFill rotWithShape="0">
            <a:blip r:embed="rId10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овокаинамид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162920" y="5029200"/>
            <a:ext cx="1523880" cy="685800"/>
          </a:xfrm>
          <a:prstGeom prst="rect">
            <a:avLst/>
          </a:prstGeom>
          <a:blipFill rotWithShape="0">
            <a:blip r:embed="rId1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И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2895120" y="2057400"/>
            <a:ext cx="16765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0" y="2057400"/>
            <a:ext cx="18288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1371600" y="3124080"/>
            <a:ext cx="129528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743200" y="3124080"/>
            <a:ext cx="6858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5714640" y="3124080"/>
            <a:ext cx="60948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400800" y="3124080"/>
            <a:ext cx="144792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19320" y="43434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29000" y="43434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638680" y="43434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924680" y="43434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Мерцательная аритмия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стоянная – контроль ЧС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ерсистирующая – восстановление синусового ритма и его поддержа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ароксизмальная – профилактика тромбоэмболических осложнени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Подходы к лечению мерцательной аритмии - рекомендации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CA/AHA/ESC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057400" y="1371600"/>
            <a:ext cx="4952880" cy="6094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ерцательная аритм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33520" y="2286000"/>
            <a:ext cx="2743200" cy="4572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ароксизмальна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867280" y="2286000"/>
            <a:ext cx="2743200" cy="45720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ерсистирующа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3520" y="3352680"/>
            <a:ext cx="2743200" cy="121932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и отсутстви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имптоматики терапия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е требуетс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33520" y="5181480"/>
            <a:ext cx="2743200" cy="121932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нтикоагулянтна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ерап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09880" y="3429000"/>
            <a:ext cx="1676520" cy="83808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стоянна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9880" y="5257800"/>
            <a:ext cx="2210040" cy="114300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онтроль ЧС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1981080" y="1981080"/>
            <a:ext cx="243864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828800" y="274320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828800" y="457200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4724280" y="2743200"/>
            <a:ext cx="243864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724280" y="426708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2285640" y="4267080"/>
            <a:ext cx="243828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400800" y="5181480"/>
            <a:ext cx="2590920" cy="121932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ддержание ритм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400800" y="3352680"/>
            <a:ext cx="2590920" cy="121932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ардиоверс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848720" y="457200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20120" y="274320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00600" y="1981080"/>
            <a:ext cx="259092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Противопоказания к восстановлению синусового ритма на догоспитальном этапе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лительность пароксизма мерцания предсердий более двух дне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оказанная дилатация левого предсердия (передне-задний размер 4,5 см по ЭхоКГ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личие тромбов в предсердиях или тромбоэмболические осложнений в анамнез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азвитие пароксизма на фоне острого коронарного синдрома (при наличии стабильной гемодинамики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азвитие пароксизма на фоне выраженных электролитных нарушени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екомпенсация тиреотоксикоз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Показания к госпитализации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впервые зарегистрированное мерцание предсердий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затянувшийся пароксизм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отсутствие эффекта от медикаментозной терапи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пароксизм с высокой частотой желудочковых сокращений и развитием осложнений аритми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частые рецидивы мерцательной аритмии (для подбора антиаритмической терапии)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ри постоянной форме мерцательной аритмии госпитализация показана при высокой тахикардии, нарастании сердечной недостаточност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Алгоритм кардиоверсии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ркоз +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Обезболива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еторол 30 гм в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идазолам (Дормикум) 5-15 мг в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ля вывода из наркоза – Флумазенил (Анексат) 0,2-0,3 мг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рдиоверсия нарастающими разрядами от 200 до 360 Дж (всего три попытки). Пауза между разрядами должна быть не меньше 1 мин во избежание повреждения миокард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Фармакологическая кардиоверсия – рекомендации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CA/AHA/ESC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533520" y="1397160"/>
            <a:ext cx="8381880" cy="4983120"/>
            <a:chOff x="533520" y="1397160"/>
            <a:chExt cx="8381880" cy="4983120"/>
          </a:xfrm>
        </p:grpSpPr>
        <p:sp>
          <p:nvSpPr>
            <p:cNvPr id="221" name=""/>
            <p:cNvSpPr/>
            <p:nvPr/>
          </p:nvSpPr>
          <p:spPr>
            <a:xfrm>
              <a:off x="6819840" y="5924520"/>
              <a:ext cx="20955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724280" y="5924520"/>
              <a:ext cx="20955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II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29080" y="5924520"/>
              <a:ext cx="20952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er os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или в\в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33520" y="5924520"/>
              <a:ext cx="20955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Соталол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819840" y="5407200"/>
              <a:ext cx="209556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724280" y="5407200"/>
              <a:ext cx="209556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Times New Roman"/>
                </a:rPr>
                <a:t>II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629080" y="5407200"/>
              <a:ext cx="209520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Times New Roman"/>
                </a:rPr>
                <a:t>Per os </a:t>
              </a:r>
              <a:r>
                <a:rPr b="0" lang="ru-RU" sz="2400" spc="-1" strike="noStrike">
                  <a:solidFill>
                    <a:srgbClr val="ff9900"/>
                  </a:solidFill>
                  <a:latin typeface="Times New Roman"/>
                </a:rPr>
                <a:t>или в\в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33520" y="5407200"/>
              <a:ext cx="209556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9900"/>
                  </a:solidFill>
                  <a:latin typeface="Times New Roman"/>
                </a:rPr>
                <a:t>Дигоксин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819840" y="4951440"/>
              <a:ext cx="20955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724280" y="4951440"/>
              <a:ext cx="20955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Times New Roman"/>
                </a:rPr>
                <a:t>II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629080" y="4951440"/>
              <a:ext cx="20952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9900"/>
                  </a:solidFill>
                  <a:latin typeface="Times New Roman"/>
                </a:rPr>
                <a:t>В\в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33520" y="4951440"/>
              <a:ext cx="20955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9900"/>
                  </a:solidFill>
                  <a:latin typeface="Times New Roman"/>
                </a:rPr>
                <a:t>Прокаинамид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819840" y="4495680"/>
              <a:ext cx="20955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724280" y="4495680"/>
              <a:ext cx="20955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II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629080" y="4495680"/>
              <a:ext cx="20952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er o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33520" y="4495680"/>
              <a:ext cx="20955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инидин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819840" y="4040280"/>
              <a:ext cx="20955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724280" y="4040280"/>
              <a:ext cx="20955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Times New Roman"/>
                </a:rPr>
                <a:t>II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629080" y="4040280"/>
              <a:ext cx="20952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Times New Roman"/>
                </a:rPr>
                <a:t>Per os </a:t>
              </a:r>
              <a:r>
                <a:rPr b="0" lang="ru-RU" sz="2400" spc="-1" strike="noStrike">
                  <a:solidFill>
                    <a:srgbClr val="ff9900"/>
                  </a:solidFill>
                  <a:latin typeface="Times New Roman"/>
                </a:rPr>
                <a:t>или в\в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33520" y="4040280"/>
              <a:ext cx="20955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9900"/>
                  </a:solidFill>
                  <a:latin typeface="Times New Roman"/>
                </a:rPr>
                <a:t>Амиодарон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819840" y="3584520"/>
              <a:ext cx="20955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724280" y="3584520"/>
              <a:ext cx="20955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629080" y="3584520"/>
              <a:ext cx="20952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Times New Roman"/>
                </a:rPr>
                <a:t>Per os </a:t>
              </a:r>
              <a:r>
                <a:rPr b="0" lang="ru-RU" sz="2400" spc="-1" strike="noStrike">
                  <a:solidFill>
                    <a:srgbClr val="ff9900"/>
                  </a:solidFill>
                  <a:latin typeface="Times New Roman"/>
                </a:rPr>
                <a:t>или в\в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33520" y="3584520"/>
              <a:ext cx="20955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9900"/>
                  </a:solidFill>
                  <a:latin typeface="Times New Roman"/>
                </a:rPr>
                <a:t>Пропафенон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819840" y="3129120"/>
              <a:ext cx="20955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724280" y="3129120"/>
              <a:ext cx="20955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629080" y="3129120"/>
              <a:ext cx="20952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В\в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33520" y="3129120"/>
              <a:ext cx="20955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Ибутилид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819840" y="2673360"/>
              <a:ext cx="20955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724280" y="2673360"/>
              <a:ext cx="20955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29080" y="2673360"/>
              <a:ext cx="20952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В\в или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er o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33520" y="2673360"/>
              <a:ext cx="20955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Флекаинид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819840" y="2217600"/>
              <a:ext cx="20955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724280" y="2217600"/>
              <a:ext cx="20955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629080" y="2217600"/>
              <a:ext cx="20952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er o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33520" y="2217600"/>
              <a:ext cx="20955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Дофетилид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819840" y="1397160"/>
              <a:ext cx="20955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ровень доказанности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724280" y="1397160"/>
              <a:ext cx="20955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Тип рекомендации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629080" y="1397160"/>
              <a:ext cx="20952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Путь введения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33520" y="1397160"/>
              <a:ext cx="20955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Препарат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33520" y="1397160"/>
              <a:ext cx="83818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33520" y="2217600"/>
              <a:ext cx="8381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33520" y="2673360"/>
              <a:ext cx="8381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33520" y="3129120"/>
              <a:ext cx="8381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3520" y="3584520"/>
              <a:ext cx="8381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33520" y="4040280"/>
              <a:ext cx="8381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33520" y="4495680"/>
              <a:ext cx="8381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33520" y="4951440"/>
              <a:ext cx="8381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33520" y="5407200"/>
              <a:ext cx="8381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33520" y="6380280"/>
              <a:ext cx="83818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33520" y="1397160"/>
              <a:ext cx="0" cy="498312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629080" y="1397160"/>
              <a:ext cx="0" cy="498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724280" y="1397160"/>
              <a:ext cx="0" cy="498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819840" y="1397160"/>
              <a:ext cx="0" cy="498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915400" y="1397160"/>
              <a:ext cx="0" cy="498312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33520" y="5924520"/>
              <a:ext cx="8381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Антиаритмики – режимы введения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опафенон – 450-600 мг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er os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или 1,5-2,0 мг/кг за 10-20 мин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миодарон – 600-800 мг/сут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er os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(до дозы 10 г), затем 200-400 мг/сут в качестве подерживающей дозы или 30-60 минутная инфузия 5-7 мг/кг с последующим переходом на перорральный прие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окаинамид – 500-1000 мг внутривенно за 10-20 минут с контролем АД и ширины желудочковых комплексов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Хинидин – 0,75 – 1,5 г за 6-12 часов параллельно с препаратом, замедляющим рит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Мерцательная аритмия – выбор лечения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нфаркт миокарда – ЭИТ, кордарон, бета-блокаторы, дигоксин; гепарин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индром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PW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– ЭИТ; при комплексах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QRS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е бельше 0,12 с – ибутилид, прокаинамид, кордарон. 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Не рекомендуются или противопоказаны бета-блокаторы, дигоксин, верапамил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КМП – амиодарон, дизопирамид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структивные заболевания легких – антагонисты кальц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еременность – дигоксин, бета-блокаторы, антагонисты кальция; ЭИТ по строгим показания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иреотоксикоз – бета блокаторы, при их плохой переносимости антагонисты кальц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Причины возникновения и патогенез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 Сосудистый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вышение ОПС за счет увеличения тонуса артериол – вазомоторного ( обусловленного нейрогуморальными влияниями ) и базального ( при задержке натрия )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 Кардиальный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величение сердечного выброса за счет повышения ЧСС, ОЦК и сократимости миокард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менение вазодилататор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менение бетаадреноблокаторов, антагонистов кальция ( верапамила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Препараты для достижения контроля над ЧСС (рекомендации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CA/AHA/ESC)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228600" y="1752480"/>
            <a:ext cx="8686800" cy="4451400"/>
            <a:chOff x="228600" y="1752480"/>
            <a:chExt cx="8686800" cy="4451400"/>
          </a:xfrm>
        </p:grpSpPr>
        <p:sp>
          <p:nvSpPr>
            <p:cNvPr id="283" name=""/>
            <p:cNvSpPr/>
            <p:nvPr/>
          </p:nvSpPr>
          <p:spPr>
            <a:xfrm>
              <a:off x="6167520" y="5504040"/>
              <a:ext cx="274788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0,125-0,25 мг/сут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925880" y="5504040"/>
              <a:ext cx="124164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2 ч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198520" y="5504040"/>
              <a:ext cx="272736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0,25 мг в/в каждые 2 часа до 1,5 мг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" y="5504040"/>
              <a:ext cx="196992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Дигоксин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167520" y="4803840"/>
              <a:ext cx="2747880" cy="7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--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925880" y="4803840"/>
              <a:ext cx="1241640" cy="7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3-5 мин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198520" y="4803840"/>
              <a:ext cx="2727360" cy="7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0,075-0,15 мг/кг за 2 мин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28600" y="4803840"/>
              <a:ext cx="1969920" cy="7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Верапамил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167520" y="4216320"/>
              <a:ext cx="274788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--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925880" y="4216320"/>
              <a:ext cx="124164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5 мин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198520" y="4216320"/>
              <a:ext cx="272736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0,15 мг/кг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28600" y="4216320"/>
              <a:ext cx="196992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Пропранолол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167520" y="3516480"/>
              <a:ext cx="274788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--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925880" y="3516480"/>
              <a:ext cx="124164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5 мин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198520" y="3516480"/>
              <a:ext cx="272736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2,5-5 мг болюсом за 2 мин (трижды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28600" y="3516480"/>
              <a:ext cx="196992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Метопролол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167520" y="2928960"/>
              <a:ext cx="274788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0,05-0,2 мг/кг/мин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925880" y="2928960"/>
              <a:ext cx="124164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5 мин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198520" y="2928960"/>
              <a:ext cx="272736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0,5 мг/кг за 1 мин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28600" y="2928960"/>
              <a:ext cx="196992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Эсмолол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167520" y="2340000"/>
              <a:ext cx="274788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5-15 мг/ч - инфузия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925880" y="2340000"/>
              <a:ext cx="124164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2-7 мин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198520" y="2340000"/>
              <a:ext cx="272736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0,25 мг/кг за 2 мин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28600" y="2340000"/>
              <a:ext cx="196992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Дилтиазем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167520" y="1752480"/>
              <a:ext cx="274788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Поддерживающая доза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925880" y="1752480"/>
              <a:ext cx="124164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Эффект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198520" y="1752480"/>
              <a:ext cx="272736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Нагрузочная доза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28600" y="1752480"/>
              <a:ext cx="196992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Препарат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28600" y="1752480"/>
              <a:ext cx="868680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28600" y="2340000"/>
              <a:ext cx="8686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28600" y="2928960"/>
              <a:ext cx="8686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28600" y="3516480"/>
              <a:ext cx="8686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28600" y="4216320"/>
              <a:ext cx="8686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28600" y="4803840"/>
              <a:ext cx="8686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28600" y="5504040"/>
              <a:ext cx="8686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28600" y="6203880"/>
              <a:ext cx="868680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28600" y="1752480"/>
              <a:ext cx="0" cy="44514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198520" y="1752480"/>
              <a:ext cx="0" cy="445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925880" y="1752480"/>
              <a:ext cx="0" cy="445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167520" y="1752480"/>
              <a:ext cx="0" cy="445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8915400" y="1752480"/>
              <a:ext cx="0" cy="44514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Инфаркт миокарда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85800" y="2286000"/>
            <a:ext cx="7772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609480" indent="-60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Алгоритм терапии при Q-ИМ (инфаркте с подъемом ST или острым развитием БЛНПГ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61920" y="2128680"/>
            <a:ext cx="74916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итроглицерин сублингвально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спирин 250 мг разжеват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орфин в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%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1 мл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итроглицерин – инфузия 0,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01%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створа (от 0,3 до 2 мл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ин – под контролем АД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 возможной задержке с тромболитической терапией более 1 часа – 1500000 ЕД стрептокиназы (инфузия за 30-6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Реперфузионная терапия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нсервативная (тромболитики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перативная (АКШ, балонная ангиопластика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___________________________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12-20% случаев в первые сутки ОИМ фиксируется спонтанный лизис тромба с восстановлением кровото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685800" y="779400"/>
            <a:ext cx="777240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85800" y="2514600"/>
            <a:ext cx="77724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Реперфузионный синдром (клинические проявления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458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рушения ритма и проводимост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гнетение сократительной способности миокард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ецидив болевого синдром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зменения на ЭКГ (парадоксальное увеличение степени подъема ST, удлинение QT, увеличение дисперсии Q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Теоретическое обоснование положительного эффекта магния при инфаркте миокарда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349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леточный уровен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26680" indent="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осстановление внутриклеточной концентрации магния в кардиомиоцит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26680" indent="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уменьшение степени повреждения миокарда (ограничение перегрузки кальцием, подавление активности свободных радикалов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349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рганный уровен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26680" indent="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гемодинамическая разгрузка миокарда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26680" indent="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улучшение перфузии зоны ишемического риск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26680" indent="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антиаритмический эффек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26680" indent="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одулирование воспалительной реакции в зоне риска путем воздействия на систему комплемент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349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истемный уровен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26680" indent="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антитромбоцитарное действи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26680" indent="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антиэндотелиновое воздействи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Динамика сегмента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T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у пациентов, получивших тромболитическую терапию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1069920" y="1830240"/>
          <a:ext cx="7761240" cy="454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9920" y="1830240"/>
                    <a:ext cx="7761240" cy="45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Динамика дисперсии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QT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1038240" y="2274840"/>
          <a:ext cx="7169040" cy="36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8240" y="2274840"/>
                    <a:ext cx="7169040" cy="36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Часто встречающиеся ошибки терапии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мбинаци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анальгина с антигистаминными препаратами обладает лишь умеренными анальгетическим и седативным эффектами и не способна снизить нагрузку на миокард. ингаляции кислорода не могут увеличить его доставки в миокард при коронарной недостаточност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нангин не облад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ет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влиянием ни на коронарный кровоток, ни на потребность миокарда в кислород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зультат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потеря времени, затягивание ишемии и увеличение угрозы развития некрозов миокарда.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Необходимы минимум лекарственных средств для лечения острого коронарного синдрома на догоспитальном этапе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12193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спири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епари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рмагнези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орфи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итроглицери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трептокиназ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Симптоматика ГК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1600200"/>
            <a:ext cx="8610480" cy="4800600"/>
            <a:chOff x="228600" y="1600200"/>
            <a:chExt cx="8610480" cy="4800600"/>
          </a:xfrm>
        </p:grpSpPr>
        <p:sp>
          <p:nvSpPr>
            <p:cNvPr id="50" name=""/>
            <p:cNvSpPr/>
            <p:nvPr/>
          </p:nvSpPr>
          <p:spPr>
            <a:xfrm>
              <a:off x="4267080" y="2884680"/>
              <a:ext cx="4572000" cy="35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озбуждение или заторможенность, мышечная дрожь, </a:t>
              </a: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гипергидроз, гиперемия</a:t>
              </a: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кожи, субфебрилитет, преходящие симптомы очаговых нарушений в ЦНС; тахи- или брадикардия, экстрасистолия;; акцент и расщепление II тона над аортой; признаки систолической перегрузки левого желудочка на ЭКГ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28600" y="2884680"/>
              <a:ext cx="4038480" cy="35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Головная боль, несистемное головокружение, тошнота и рвота, ухудшение зрения, кардиалгия, сердцебиение и перебои в работе сердца, одышка</a:t>
              </a: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267080" y="1600200"/>
              <a:ext cx="4572000" cy="12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</a:rPr>
                <a:t>Объективные симптомы криза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28600" y="1600200"/>
              <a:ext cx="4038480" cy="12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убъективные симптомы криза</a:t>
              </a: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28600" y="6400800"/>
              <a:ext cx="86104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28600" y="1600200"/>
              <a:ext cx="0" cy="48006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28600" y="2884680"/>
              <a:ext cx="86104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28600" y="1600200"/>
              <a:ext cx="86104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267080" y="1600200"/>
              <a:ext cx="0" cy="48006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1600200"/>
              <a:ext cx="0" cy="48006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Аритмии: определение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311120" y="2128680"/>
            <a:ext cx="714240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6560" indent="-4665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рушение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астоты, ритмичности и (или) последовательности сердечных сокращений: учащение (тахикардия) либо урежение (брадикардия) ритма, преждевременные сокращения (экстрасистолия), дезорганизация ритмической деятельности (мерцательная аритмия) и т.д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Антиаритмическая терапия на догоспитальном этапе показана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71640" y="1916280"/>
            <a:ext cx="7557840" cy="33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 плохой субъективной переносимости нарушени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й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сердечного ритма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и гемодинамически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начимых аритмиях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прогностически значимых аритмиях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"/>
          <p:cNvGrpSpPr/>
          <p:nvPr/>
        </p:nvGrpSpPr>
        <p:grpSpPr>
          <a:xfrm>
            <a:off x="228600" y="304920"/>
            <a:ext cx="8610480" cy="6024600"/>
            <a:chOff x="228600" y="304920"/>
            <a:chExt cx="8610480" cy="6024600"/>
          </a:xfrm>
        </p:grpSpPr>
        <p:sp>
          <p:nvSpPr>
            <p:cNvPr id="353" name=""/>
            <p:cNvSpPr/>
            <p:nvPr/>
          </p:nvSpPr>
          <p:spPr>
            <a:xfrm>
              <a:off x="4533840" y="762120"/>
              <a:ext cx="4305240" cy="55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601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инусовые тахикардия, брадикардия и аритмия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остоянная форма мерцания и трепетания предсердий без признаков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ЗСН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экстрасистолия (за исключением желудочковой при остром инфаркте миокарда)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ускоренный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зловой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ритм;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АВ-блокада I и II степени у лиц без инфаркта миокарда в анамнезе и приступов МЭ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С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блокады ножек пучка Гиса.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28600" y="762120"/>
              <a:ext cx="4305240" cy="55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ароксизмальная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управентрикулярная тахикардия;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ароксизм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ы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мерцани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я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трепетани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я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предсердий;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желудочковая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тахикардия;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желудочковая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экстрасистолия в острейшей стадии инфаркта миокарда;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брадиаритмии с развитием приступов МЭ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533840" y="304920"/>
              <a:ext cx="43052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Не требуют терапии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28600" y="304920"/>
              <a:ext cx="43052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Требуют терапии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28600" y="304920"/>
              <a:ext cx="86104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28600" y="762120"/>
              <a:ext cx="8610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28600" y="6329520"/>
              <a:ext cx="86104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28600" y="304920"/>
              <a:ext cx="0" cy="60246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533840" y="304920"/>
              <a:ext cx="0" cy="6024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839080" y="304920"/>
              <a:ext cx="0" cy="60246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Перечень обязательных вопросов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152280" y="1600200"/>
            <a:ext cx="8763120" cy="4915080"/>
            <a:chOff x="152280" y="1600200"/>
            <a:chExt cx="8763120" cy="4915080"/>
          </a:xfrm>
        </p:grpSpPr>
        <p:sp>
          <p:nvSpPr>
            <p:cNvPr id="365" name=""/>
            <p:cNvSpPr/>
            <p:nvPr/>
          </p:nvSpPr>
          <p:spPr>
            <a:xfrm>
              <a:off x="3409920" y="5712840"/>
              <a:ext cx="5505480" cy="80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6000"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Учитывается при выборе терапии</a:t>
              </a: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. По эффективности </a:t>
              </a: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определенного </a:t>
              </a: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антиаритмика </a:t>
              </a: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(аденозин, лидокаин) иногда </a:t>
              </a: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можно определить вид нарушений ритма.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52280" y="5712840"/>
              <a:ext cx="3257640" cy="8024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6000"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Были ли подобные пароксизмы ранее? Если да, то чем они снимались?</a:t>
              </a:r>
              <a:r>
                <a:rPr b="0" lang="ru-RU" sz="18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409920" y="4910400"/>
              <a:ext cx="5505480" cy="80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обходимо выявить возможные осложнения аритмии.</a:t>
              </a: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52280" y="4910400"/>
              <a:ext cx="3257640" cy="8024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2000"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Не было ли обмороков, удушья, боли в области сердца?</a:t>
              </a:r>
              <a:r>
                <a:rPr b="0" lang="ru-RU" sz="18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409920" y="4315320"/>
              <a:ext cx="550548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1000"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От давности аритмии зависит, в частности, тактика оказания помощи при мерцательной аритмии.</a:t>
              </a: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52280" y="4315320"/>
              <a:ext cx="3257640" cy="594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1000"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Как давно возникло ощущение сердцебиения?</a:t>
              </a:r>
              <a:r>
                <a:rPr b="0" lang="ru-RU" sz="18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409920" y="3272040"/>
              <a:ext cx="5505480" cy="10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3000"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Аритмии, субъективно не ощущаемые, нередко не нуждаются в неотложной терапии; отсутствие </a:t>
              </a: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ощ</a:t>
              </a: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ущений, затрудняет определение давности аритмии.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52280" y="3272040"/>
              <a:ext cx="3257640" cy="1043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Есть ли ощущение сердцебиения или перебоев в работе сердца?</a:t>
              </a:r>
              <a:r>
                <a:rPr b="0" lang="ru-RU" sz="18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409920" y="2469600"/>
              <a:ext cx="5505480" cy="80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6000"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которые </a:t>
              </a: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препараты</a:t>
              </a: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провоцируют нарушения ритма и проводимости</a:t>
              </a: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; </a:t>
              </a: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обходимо учитывать взаимодействие антиаритмиков с др</a:t>
              </a: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. препаратами</a:t>
              </a: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.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52280" y="2469600"/>
              <a:ext cx="3257640" cy="8024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Какие </a:t>
              </a:r>
              <a:r>
                <a:rPr b="0" lang="ru-RU" sz="1800" spc="-1" strike="noStrike">
                  <a:solidFill>
                    <a:srgbClr val="000066"/>
                  </a:solidFill>
                  <a:latin typeface="Times New Roman"/>
                </a:rPr>
                <a:t>препараты</a:t>
              </a:r>
              <a:r>
                <a:rPr b="0" lang="ru-RU" sz="18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 пациент принимал в последнее время?</a:t>
              </a:r>
              <a:r>
                <a:rPr b="0" lang="ru-RU" sz="18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409920" y="1600200"/>
              <a:ext cx="5505480" cy="86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обходимо выяснить возможную причину аритмии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52280" y="1600200"/>
              <a:ext cx="3257640" cy="8694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Есть ли в анамнезе заболевания сердца, щитовидной железы?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52280" y="1600200"/>
              <a:ext cx="87631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52280" y="2469600"/>
              <a:ext cx="8763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52280" y="3272040"/>
              <a:ext cx="8763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52280" y="4315320"/>
              <a:ext cx="8763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52280" y="4910400"/>
              <a:ext cx="8763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52280" y="5712840"/>
              <a:ext cx="8763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52280" y="6515280"/>
              <a:ext cx="87631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52280" y="1600200"/>
              <a:ext cx="0" cy="491508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409920" y="1600200"/>
              <a:ext cx="0" cy="4915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915400" y="1600200"/>
              <a:ext cx="0" cy="491508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Лечение аритмии на догоспитальном этапе: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общие принцип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880" y="228564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актика зависит от вида аритм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 нестабильной гемодинамике в большинстве случаев показана ЭИТ, медикаментозная терапия проводится при стабильной гемодинамик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 отсутствии эффекта от одного антиаритмического средства медикаментознаяч терапия прекращается, показана госпитализация (исключение – желудочковая тахикардия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Пароксизм суправентрикулярной тахикардии: алгоритм лечения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емодинамика нестабильна – ЭИ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емодинамика стабильна – вагусные проб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 отсутствии эффекта от вагусных проб – верапамил (изоптин) в/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 подозрении на синдром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PW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– новокаинамид в/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епараты резерва – дигоксин, пропраноло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Пароксизм суправентрикулярной тахикардии: показания к госпитализации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первые зарегистрированны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нарушения ритма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сутстви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эффекта от медикаментозной терапии (на догоспитальном этапе применяют только одно аритмическое средство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явлени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осложнений, потребовавших проведения электроимпульсной терапи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асто рецидивирующи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нарушения ритм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Times New Roman"/>
              </a:rPr>
              <a:t>Пароксизм желудочковой тахикардии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1295280" y="2971800"/>
            <a:ext cx="6896520" cy="1547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госпитализация показана всегда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Пароксизм желудочковой тахикардии: алгоритм лечения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емодинамика нестабильна – ЭИТ, после восстановления синусового ритма – поддерживающая терапия лидокаино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емодинамика стабильна – лидокаин в/в струйно болюсом (80-100 мг), затем поддерживающая инфузия (20-55 мкг/кг/мин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 отсутствии эффекта и стабильной гемодинамике, при невозможности проведения ЭИТ – новокаинамид (в/в дробно по 100 мг каждые 5 мин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«Пируэт», а также тахикардии, рефрактерные к терапии лидокаином и новокаинамидом – магния сульфат в/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Догоспитальная помощь при ТЭЛА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орфин 1% - 1-2 мл в/в фракционно (до достижения эффекта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епарин 10 000 Ед в/в болюсом (за исключением случаев, когда пациент принимает непрямые антикоагулянты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еополиглюкин  – инфузия со скоростью 1-2 мл/ми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 САД выше 6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m Hg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в/в введение нитропруссида натрия или изосорбида динитрат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 САД 6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mm Hg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и ниже – введение прессорных амин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 бронхоспазме – в/в введение эуфиллина или изопротеренол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Классификация ГК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457200" y="1371600"/>
            <a:ext cx="8418600" cy="5288040"/>
            <a:chOff x="457200" y="1371600"/>
            <a:chExt cx="8418600" cy="5288040"/>
          </a:xfrm>
        </p:grpSpPr>
        <p:sp>
          <p:nvSpPr>
            <p:cNvPr id="62" name=""/>
            <p:cNvSpPr/>
            <p:nvPr/>
          </p:nvSpPr>
          <p:spPr>
            <a:xfrm>
              <a:off x="6248520" y="4013280"/>
              <a:ext cx="2627280" cy="11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imes New Roman"/>
                </a:rPr>
                <a:t>От нескольких часов до нескольких дней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505320" y="4013280"/>
              <a:ext cx="2743200" cy="11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imes New Roman"/>
                </a:rPr>
                <a:t>До 3-4 ч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57200" y="4013280"/>
              <a:ext cx="3048120" cy="11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imes New Roman"/>
                </a:rPr>
                <a:t>Продолжительность криза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248520" y="5175360"/>
              <a:ext cx="262728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imes New Roman"/>
                </a:rPr>
                <a:t>Нормальная или брадикардия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505320" y="5175360"/>
              <a:ext cx="27432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imes New Roman"/>
                </a:rPr>
                <a:t>Тахикардия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" y="5175360"/>
              <a:ext cx="30481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imes New Roman"/>
                </a:rPr>
                <a:t>ЧСС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248520" y="6191280"/>
              <a:ext cx="2627280" cy="4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imes New Roman"/>
                </a:rPr>
                <a:t>Сосудистый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505320" y="6191280"/>
              <a:ext cx="2743200" cy="4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imes New Roman"/>
                </a:rPr>
                <a:t>Кардиальный 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6191280"/>
              <a:ext cx="3048120" cy="4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imes New Roman"/>
                </a:rPr>
                <a:t>Осн. Механизм криза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248520" y="2997360"/>
              <a:ext cx="262728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imes New Roman"/>
                </a:rPr>
                <a:t>Постепенное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05320" y="2997360"/>
              <a:ext cx="27432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imes New Roman"/>
                </a:rPr>
                <a:t>Острое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57200" y="2997360"/>
              <a:ext cx="30481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imes New Roman"/>
                </a:rPr>
                <a:t>Развитие криза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248520" y="1981080"/>
              <a:ext cx="2627280" cy="101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imes New Roman"/>
                </a:rPr>
                <a:t>Чаще, поздняя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505320" y="1981080"/>
              <a:ext cx="2743200" cy="101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imes New Roman"/>
                </a:rPr>
                <a:t>Чаще, ранняя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57200" y="1981080"/>
              <a:ext cx="3048120" cy="101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imes New Roman"/>
                </a:rPr>
                <a:t>Стадия АГ, на которой возникает ГК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48520" y="1371600"/>
              <a:ext cx="26272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imes New Roman"/>
                </a:rPr>
                <a:t>Гипокинетический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05320" y="1371600"/>
              <a:ext cx="27432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imes New Roman"/>
                </a:rPr>
                <a:t>Гиперкинетический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57200" y="1371600"/>
              <a:ext cx="3048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7200" y="1371600"/>
              <a:ext cx="841860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57200" y="1981080"/>
              <a:ext cx="8418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57200" y="2997360"/>
              <a:ext cx="8418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57200" y="4013280"/>
              <a:ext cx="8418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" y="6659640"/>
              <a:ext cx="841860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57200" y="1371600"/>
              <a:ext cx="0" cy="528804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05320" y="1371600"/>
              <a:ext cx="0" cy="5288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48520" y="1371600"/>
              <a:ext cx="0" cy="5288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875800" y="1371600"/>
              <a:ext cx="0" cy="528804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7200" y="6191280"/>
              <a:ext cx="8418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57200" y="5175360"/>
              <a:ext cx="8418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Задачи терапии ТЭЛА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упирование «дыхательной паники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безболива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табилизация гемодинамик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едотвращение роста тромб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лучшение реологических свойств кров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еперфузионная терап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ЭКГ-признаки ТЭЛА (появляются в  25% случаев).</a:t>
            </a: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знаки перегрузки правого предсердия 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pulmonale - высокий заостренный зубец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в отведениях II, III, aVF) и правого желудочка (синдром Мак-Джина-Уайта - глубокий зубец S в I отведении, глубокий зубец Q и отрицательный зубец Т в III отведении с возможным подъемом сегмента SТ; неполная блокада правой ножки пучка Гиса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Клинические признаки ТЭЛА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незапное начало с появлением одышки (72% случаев) и острой боли в груди (86%), часто -  острая сосудистая недостаточность с появлением бледности, цианоза, тахикардии (87%), падением АД вплоть до развития коллапса и потери сознания (12%). При развитии инфаркта легкого в 10-50% случаев появляется кровохарканье в виде прожилок крови в мокроте. При осмотре могут определяться признаки легочной гипертензии и острого легочного сердца – набухание и пульсация шейных вен, расширение границ сердца вправо, пульсация в эпигастрии, усиливающаяся на вдохе, акцент и раздвоение II тона на легочной артерии, увеличение печени. Возможно появление сухих хрипов над легкими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0000"/>
                </a:solidFill>
                <a:uFillTx/>
                <a:latin typeface="Times New Roman"/>
              </a:rPr>
              <a:t>Кардиогенный шок</a:t>
            </a:r>
            <a:br>
              <a:rPr sz="5400"/>
            </a:b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 algn="just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Кардиогенный шо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линический синдром, характеризующийся артериальной гипотензией (САД менее 90-80 мм рт.ст., или на 30 мм рт.ст. ниже "рабочего" уровня у лиц с артериальной гипертензией, уменьшением пульсового давления и признаками резкого ухудшения микроциркуляции и перфузии тканей, в том числе кровоснабжения мозга и почек (заторможенность или возбуждение, падение диуреза менее 20 мл в час, холодная кожа, покрытая липким потом, бледность, серый цианоз, мраморный рисунок кожи); синусовая тахикардия, имеющая компенсаторный характер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Варианты кардиогенного шока: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1) - 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аритмический шок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звивается как результат падения минутного объема кровообращения вследствие тахикардии/тахиаритмии или брадикардии/брадиаритмии; после купирования нарушения ритма достаточно быстро восстанавливается адекватная гемодинамика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2)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i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рефлекторный шок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(болевой коллапс)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развивается как реакция на боль и характеризуется быстрым ответом на обезболивающую терапию; отсутствием признаков застойной сердечной недостаточности, ухудшения тканевой перфузии (в частности, серого цианоза); пульсовое давление обычно превышает критический уровень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3)  - </a:t>
            </a:r>
            <a:r>
              <a:rPr b="0" i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истинный кардиогенный шок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азвивается при объеме поражения, превышающем 40-50% массы миокарда левого желудочка (чаще при передне-боковых и повторных инфарктах, у лиц старше 60 лет, на фоне артериальной гипертензии и сахарного диабета), характеризуется развернутой картиной шока, устойчивой к терапии, нередко сочетающейся с застойной левожелудочковой недостаточностью; в зависимости от выбранных критериев диагностики этого состояния приводимые уровни летальности (в отсутствие хирургического лечения) колеблются на уровне 80-100%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Times New Roman"/>
              </a:rPr>
              <a:t>Лечение кардиогенного шока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ключается в повышении сердечного выброса, что достигается различными способами, значимость которых меняется в зависимости от клинического варианта шок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упирование неблагоприятных рефлекторных влияний на гемодинамику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орьба с нарушениями сердечного ритма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беспечение адекватного венозного возврата и диастолического наполнения левого желудочка, борьба с гиповолемией и нарушениями реологических свойств крови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осстановление адекватной тканевой перфузии жизненно важных органов, в частности, сердца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тимуляция сократимости миокарда негликозидными инотропными средствами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емодинамическая разгрузка сердца за счет снижения пост- и преднагрузк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 отсутствии признаков застойной сердечной недостаточности (одышки, влажных хрипов в задненижних отделах легких) больному необходимо придать горизонтальное положение или даже положение Тренделенбурга (с приспущенным головным концом), что, увеличивая венозный возврат к сердцу, способствует возрастанию сердечного выброс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2890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Возможные осложнения ГК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04920" y="1422360"/>
            <a:ext cx="8610480" cy="4664160"/>
            <a:chOff x="304920" y="1422360"/>
            <a:chExt cx="8610480" cy="4664160"/>
          </a:xfrm>
        </p:grpSpPr>
        <p:sp>
          <p:nvSpPr>
            <p:cNvPr id="93" name=""/>
            <p:cNvSpPr/>
            <p:nvPr/>
          </p:nvSpPr>
          <p:spPr>
            <a:xfrm>
              <a:off x="3962520" y="3519360"/>
              <a:ext cx="4952880" cy="101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арактерный болевой синдром, изменения ЭК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04920" y="3519360"/>
              <a:ext cx="3657600" cy="101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Острый коронарный синдром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962520" y="4535640"/>
              <a:ext cx="4952880" cy="15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Боль, картина шока, аортальная недостаточность, тампонада перикарда, ишемия кишечника, мозга, конечностей и др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04920" y="4535640"/>
              <a:ext cx="3657600" cy="15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Расслаивание аневризмы аорты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962520" y="3063960"/>
              <a:ext cx="49528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Очаговые расстройств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04920" y="3063960"/>
              <a:ext cx="36576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ОНМК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962520" y="1878120"/>
              <a:ext cx="495288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Головная боль, спутанность сознания, тошнота, рвота, судороги, ком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04920" y="1878120"/>
              <a:ext cx="365760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Гипертоническая энцефалопатия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962520" y="1422360"/>
              <a:ext cx="495288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Клинические проявления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04920" y="1422360"/>
              <a:ext cx="36576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Осложнение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04920" y="1422360"/>
              <a:ext cx="86104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04920" y="1878120"/>
              <a:ext cx="8610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04920" y="3063960"/>
              <a:ext cx="8610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04920" y="3519360"/>
              <a:ext cx="8610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04920" y="6086520"/>
              <a:ext cx="86104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04920" y="1422360"/>
              <a:ext cx="0" cy="466416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962520" y="1422360"/>
              <a:ext cx="0" cy="4664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915400" y="1422360"/>
              <a:ext cx="0" cy="466416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04920" y="4535640"/>
              <a:ext cx="8610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ctr">
              <a:spcBef>
                <a:spcPts val="11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</a:rPr>
              <a:t>Вне зависимости от особенностей клинической картины необходимо обеспечить полноценную анальгезию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упирование нарушений ритма является важнейшим мероприятием по нормализации сердечного выброса, даже если после восстановления нормосистолии не отмечается восстановление адекватной гемодинамики. Брадикардия, которая может свидетельствовать о повышенном тонусе вагуса, требует немедленного внутривенного введения 0,3-1 мл 0,1% раствора атропин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и развернутой клинической картине шока и отсутствии признаков застойной сердечной недостаточности терапию следует начинать с введения плазмозаменителей в суммарной дозе 400-1200 мл под контролем артериального давления, ЧСС, частоты дыханий и аускультативной картины легких. В случае указаний на существенные потери жидкости и электролитов непосредственно перед развитием острого поражения сердца с развитием шока (длительное применение больших доз мочегонных, неукротимая рвота, профузные поносы и т.п.) для борьбы с гиповолемией используется изотонический раствор натрия хлорида, в количестве до 200 мл за 10 минут с повторным введением аналогичной дозы при отсутствии эффекта или осложнений. В других случаях осуществляется пробное болюсное введение обладающего волемическим и реологическим свойствами декстрана 40 (реополиглюкина) в количестве 100 мл с повторным введением по 50 мл каждые 5 минут до достижения систолического АД 100 мм рт. ст. с последующим переходом на капельное введение или до появления признаков застойной левожелудочковой недостаточности. Поскольку максимальная разовая доза декстрана 40 не должна превышать 400 мл в связи с возможным развитием нефротоксического действия, при превышении этой дозы показан переход на декстран 70 (полиглюкин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тсутствие эффекта от всего комплекса терапевтических мероприятий, включая активную борьбу с гиповолемией, или сочетание кардиогенного шока с застойной сердечной недостаточностью служит показанием к применению инотропных средств из группы прессорных аминов, которые во избежание местных нарушений кровообращения с развитием некрозов тканей следует вводить в центральную вену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опамин (допмин) в дозе 1-5 мкг/кг/мин обладает вазодилатирующим эффектом, в дозе 5-15 мкг/кг/мин – вазодилатирующим и положительным инотропным (и хронотропным) эффектами, а в дозе 15-25 мкг/кг/мин – положительным инотропным (и хронотропным) и периферическим вазоконстриктивным эффектами. 800 мг препарата растворяется в 500 мл 5% раствора глюкозы (или 200 мг на 125 мл) – 1 мл полученной смеси содержит 1,6 мг, а 1 капля – 80 мкг допамина). Начальная доза составляет 3-5 мкг/кг/мин с постепенным увеличением скорости введения до достижения эффекта, максимальной дозы (25 мкг/кг/мин, хотя описывается и доза до 50 мкг/кг/мин) или развития осложнений (чаще всего синусовой тахикардии, превышающей 140 в 1 минуту, или желудочковых аритмий). Противопоказаниями к его применению служат тиреотоксикоз, феохромоцитома, сердечные аритмии, повышенная чувствительность к дисульфиду, предшествовавший прием ингибиторов МАО; при предшествовавшем приеме трициклических антидепрессантов дозы должны быть уменьшены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244600" y="260280"/>
            <a:ext cx="438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Допамин (допмин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сутствие эффекта от допамина или невозможность его использования в связи с тахикардией, аритмией или повышенной чувствительностью служит показанием к присоединению или монотерапии добутамином (добутрексом), который в отличие от допамина не вызывает вазодилатацию, но обладает мощным положительным инотроптым эффектом и менее выраженной способностью увеличивать ЧСС и вызывать аритмии. 250 мг препарата разводится в 500 мл 5% раствора глюкозы (1 мл смеси содержит 0,5 мг, а 1 капля – 25 мкг добутамина). При монотерапии он назначается в дозе 2,5 мкг/кг/мин с увеличением каждые 15-30 мин на 2,5 мкг/кг/мин до получения эффекта, побочного действия или достижения дозы 15 мкг/кг/мин. При комбинации добутамина с допамином они назначаются в максимально переносимых дозах. Противопоказанием к его назначению служит идиопатический гипертрофический субаортальный стеноз, стеноз устья аорт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962440" y="0"/>
            <a:ext cx="295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Добутамин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Гемодинамические эффекты добутамина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вышение С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нижение ОПС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вышение ЧС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нижение КДД в левом желудочк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нижение ДЛ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 отсутствии возможности использовать другие прессорные амины или при систолическом АД менее 60 мм рт. ст. показан норадреналин в возрастающей дозе, не превышающей 16 мкг/мин, обязательно в сочетании с инфузией нитроглицерина или изосорбида динитрата со скоростью 5-200 мкг/мин Противопоказанием к его применению служат тиреотоксикоз, феохромоцитома, предшествовавший прием ингибиторов МАО. При предшествовавшем приеме трициклических антидепрессантов дозы должны быть уменьшен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664720" y="189000"/>
            <a:ext cx="390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Норадреналин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0" y="1628640"/>
            <a:ext cx="9144000" cy="32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При отсутствии эффекта от применения допамина или добутамина допустимо их сочетание с норадреналином, доза которого в этом случае должна ограничиваться 8 мкг/мин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Эффекты адренергических препаратов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685800" y="1981080"/>
            <a:ext cx="7772400" cy="4265640"/>
            <a:chOff x="685800" y="1981080"/>
            <a:chExt cx="7772400" cy="4265640"/>
          </a:xfrm>
        </p:grpSpPr>
        <p:sp>
          <p:nvSpPr>
            <p:cNvPr id="432" name=""/>
            <p:cNvSpPr/>
            <p:nvPr/>
          </p:nvSpPr>
          <p:spPr>
            <a:xfrm>
              <a:off x="6904080" y="5638680"/>
              <a:ext cx="155412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508720" y="5638680"/>
              <a:ext cx="139536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-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657600" y="5638680"/>
              <a:ext cx="185112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239920" y="5638680"/>
              <a:ext cx="141768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85800" y="5638680"/>
              <a:ext cx="155412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4000"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Ренальный кровоток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904080" y="5181480"/>
              <a:ext cx="1554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508720" y="5181480"/>
              <a:ext cx="1395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657600" y="5181480"/>
              <a:ext cx="1851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239920" y="5181480"/>
              <a:ext cx="1417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85800" y="5181480"/>
              <a:ext cx="1554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ДЛК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904080" y="4724280"/>
              <a:ext cx="1554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-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508720" y="4724280"/>
              <a:ext cx="1395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657600" y="4724280"/>
              <a:ext cx="1851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239920" y="4724280"/>
              <a:ext cx="1417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85800" y="4724280"/>
              <a:ext cx="1554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ЧСС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904080" y="4267080"/>
              <a:ext cx="1554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508720" y="4267080"/>
              <a:ext cx="1395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-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657600" y="4267080"/>
              <a:ext cx="1851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239920" y="4267080"/>
              <a:ext cx="1417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-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85800" y="4267080"/>
              <a:ext cx="1554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ОПСС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904080" y="3809880"/>
              <a:ext cx="1554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508720" y="3809880"/>
              <a:ext cx="1395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657600" y="3809880"/>
              <a:ext cx="1851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-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239920" y="3809880"/>
              <a:ext cx="1417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85800" y="3809880"/>
              <a:ext cx="1554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СВ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904080" y="3352680"/>
              <a:ext cx="1554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-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508720" y="3352680"/>
              <a:ext cx="1395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657600" y="3352680"/>
              <a:ext cx="1851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239920" y="3352680"/>
              <a:ext cx="1417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85800" y="3352680"/>
              <a:ext cx="1554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ДАД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904080" y="2895480"/>
              <a:ext cx="1554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08720" y="2895480"/>
              <a:ext cx="1395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657600" y="2895480"/>
              <a:ext cx="1851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239920" y="2895480"/>
              <a:ext cx="1417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-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85800" y="2895480"/>
              <a:ext cx="1554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САД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904080" y="2438280"/>
              <a:ext cx="1554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508720" y="2438280"/>
              <a:ext cx="1395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657600" y="2438280"/>
              <a:ext cx="1851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239920" y="2438280"/>
              <a:ext cx="1417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85800" y="2438280"/>
              <a:ext cx="1554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АД ср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904080" y="1981080"/>
              <a:ext cx="1554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Добутамин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508720" y="1981080"/>
              <a:ext cx="1395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Допамин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657600" y="1981080"/>
              <a:ext cx="1851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Норадреналин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239920" y="1981080"/>
              <a:ext cx="1417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Адреналин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85800" y="1981080"/>
              <a:ext cx="1554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85800" y="1981080"/>
              <a:ext cx="7772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85800" y="6246720"/>
              <a:ext cx="7772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85800" y="1981080"/>
              <a:ext cx="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458200" y="1981080"/>
              <a:ext cx="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85800" y="2438280"/>
              <a:ext cx="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458200" y="2438280"/>
              <a:ext cx="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85800" y="2895480"/>
              <a:ext cx="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8458200" y="2895480"/>
              <a:ext cx="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85800" y="3352680"/>
              <a:ext cx="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8458200" y="3352680"/>
              <a:ext cx="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85800" y="3809880"/>
              <a:ext cx="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8458200" y="3809880"/>
              <a:ext cx="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85800" y="4267080"/>
              <a:ext cx="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8458200" y="4267080"/>
              <a:ext cx="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85800" y="4724280"/>
              <a:ext cx="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8458200" y="4724280"/>
              <a:ext cx="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85800" y="5181480"/>
              <a:ext cx="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8458200" y="5181480"/>
              <a:ext cx="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85800" y="5638680"/>
              <a:ext cx="0" cy="6080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8458200" y="5638680"/>
              <a:ext cx="0" cy="6080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85800" y="243828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Диагностические критерии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Диагностика ГК основывается на следующих основных критериях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Внезапное начало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Высокий (относительно привычных цифр) подъем АД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Церебральные, кардиальные и вегетативные симптом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 наличии признаков застойной сердечной недостаточности и в случае применения инотропных средств из группы прессорных аминов показано введение периферических вазодилататоров – нитратов (нитроглицерина или изосорбида динитрата со скоростью 5-200 мкг/мин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56840" y="404640"/>
            <a:ext cx="843588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 отсутствии противопоказаний, с целью коррекции микроциркуляторных нарушений, особенно при длительно некупирующемся шоке показано назначение гепарина – 5-10 тыс. МЕ внутривенно болюсно, затем капельно со скоростью 1 тыс. МЕ/час, либо однократно болюсно 10-15 тыс. МЕ с продолжением терапии в стационаре (см. раздел “Острый коронарный синдром”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914400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 отсутствии эффекта от адекватно проводимой терапии показано применение внутриаортальной баллонной контрпульсации как способ временной стабилизации гемодинамики до выполнения более радикального вмешательства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(внутрикоронарной баллонной ангиопластики и др.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ТАКТИКА ПРИ ФИБРИЛЛЯЦИИ ЖЕЛУДОЧКОВ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) Основным способом лечения фибрилляции желудочков является электрическая дефибрилляция. Начальная энергия разряда составляет 200 – 360 Дж. При отсутствии электрического дефибриллятора допустимо выполнение прекордиального удар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) При сохранении фибрилляции желудочков повторяют электрический разряд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) При неэффективности – возобновляют основные реанимационные мероприятия, производят интубацию трахеи, налаживают венозный доступ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4) Адреналин 1 мг в/в струйно каждые 3 – 5 мин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5) Возрастающие дозы адреналина 1-3-5 мг в/в каждые 3 минуты, или применение промежуточных доз 2-5 мг в/в каждые 3-5 минут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6) Если в течение 1 минуты не восстановлен ритм, то выполняется электрическая дефибрилляция разрядом 360 Дж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7) При продолжающейся фибрилляции желудочков используют антиаритмические препараты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Лидокаин 1,5 мг/кг в/в струйно повторяют через 3–5 мин. В случае восстановления кровообращения налаживают непрерывную инфузию лидокаина со скоростью 2-4 мг/мин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Сульфат магния 1-2 г в/в в течение 1-2 мин. (Предпочтение сульфату магния можно отдать в случае заведомой гипомагниемии, желудочковой тахикардии типа torsade de pointes (“пируэт”)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8) Бикарбонат натрия вводят в/в 1 мэкв/кг, повторяя введение 0,5 мэкв/кг каждые 10 мин при сохраняющейся в течение продолжительного времени остановке кровообращения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екомендуется чередовать введение лекарственных препаратов с разрядами дефибриллятора по схеме: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“лекарство – разряд – лекарство – разряд”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ледует отметить, что развитие асистолии после электрической дефибрилляции может быть обусловлено выраженной ваготоние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76212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ТАКТИКА ПРИ АСИСТОЛИИ</a:t>
            </a:r>
            <a:br>
              <a:rPr sz="4800"/>
            </a:b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44197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Перечень вопросов обязательных при диагностике гипертонического криза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4)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учает ли пациент регулярную гипотензивную терапию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из может развиться на фоне неадекватной терапии или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ее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мены (например, бета-адреноблокаторов, клофелина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)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гда появилась симптоматика и сколько длится криз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 кризе АД нарастает в течение минут, часов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6)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ыли ли попытки самостоятельно купировать ГК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Чем раньше удавалось снизить АД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?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Был ли эффект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то должно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ываться при выборе гипотензивного средства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и для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учета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зможност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взаимодейств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актика лечения этой причины остановки кровообращения практически не отличается от изложенной выше. Необходимо обратить внимание на следующее: ЭКГ в одном отведении при мелковолновой фибрилляции желудочков может симулировать асистолию и поэтому асистолия должна быть подтверждена в нескольких отведениях ЭКГ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Электрическая дефибрилляция при асистолии </a:t>
            </a:r>
            <a:r>
              <a:rPr b="0" i="1" lang="ru-RU" sz="4000" spc="-1" strike="noStrike" u="sng">
                <a:solidFill>
                  <a:srgbClr val="ff0000"/>
                </a:solidFill>
                <a:uFillTx/>
                <a:latin typeface="Times New Roman"/>
              </a:rPr>
              <a:t>не показана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, в связи с тем что разряд может лишь усилить ваготонию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Лечение: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) Основные реанимационные мероприятия – непрямой массаж сердца и ИВЛ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) Адреналин 1 мг внутривенно струйно каждые 3 – 5 минут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) Атропин 1 мг внутривенно струйно, повторные введения каждые 3 – 5 минут до общей дозы 0,04 мг/кг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) Допамин в дозе 5 – 20 мкг/кг мин (разводится 200 мг препарата на 400 мл физиологического раствора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) Электрокардиостимуляция (при асистолии может применяться трансторакальная стимуляция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6) Бикарбонат натрия в/в 2–4 г (50 – 100 мл 4% раствора), повторное введение 2 г каждые 10 мин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актика оказания неотложной помощи</a:t>
            </a: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 зависит от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раженности симптоматики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соты и стойкости АД, в частности диастолического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 причины, вызвавшей повышение АД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т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характера осложнени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(Федеральное руководство для врачей по использованию лекарственных средств, выпуск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I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, 2001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4-12-19T14:53:00Z</dcterms:modified>
  <cp:revision>32</cp:revision>
  <dc:subject/>
  <dc:title>Неотложная  Кардиология</dc:title>
</cp:coreProperties>
</file>