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A36-2D42-4B68-BD47-3F8AA1BC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C8D-90BC-42F4-B38E-280C1D5B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CE1-1F61-4DD3-8617-8EA406B2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404-703E-4005-B816-0A2E120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626-089A-4C86-B319-13F043B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B4D4-A68B-49FF-8004-5263389C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DBE7-333D-4B42-854B-F229E76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2E54-FE6D-44BE-ADB4-3682B51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AD5C-9A34-40DB-87B8-7F9DA16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7841-4F47-402A-AE15-AD2069A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FC64-88B6-4362-BBED-F0D6C6B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93A-1ADB-4940-8578-4FDF47F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36F0-0890-452B-B76C-244651E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649E-0AA5-4A88-890F-5B179AE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C835-55CC-416A-B070-7D8F7D1D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2D6E-EB42-4751-9703-402E4906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DA7-C5F2-479A-ACAB-9D7CD0FA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E5CC-1850-4777-AA8F-E2B764BA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9E0B-337E-481C-9B17-23C87676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BD85-F6E8-49B7-93D7-66C591DF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A916-DB93-41EE-A83B-88B831B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7D0F-FD44-4669-884B-8A7FC9E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762-19EB-434E-9811-59A59263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5F68-4766-4FF6-AAEF-0624DB5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AFB9-00FB-4F33-88E9-47B78AE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32F9-93B7-4BA6-834A-4467236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97D5-28A1-4C80-8CBE-1014C62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DE0C-5BD7-4FE8-BD26-8DB3BE7B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A92B-7540-4278-A5F3-725A32FC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0C53-B665-4151-9BBE-288F8668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361-E7A9-4B70-B447-A6949E68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E16-FE0F-400C-9F7F-133BD93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71F-378F-44F4-9C83-A84AC768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DB0-13C4-45C4-8A94-2CF58D2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4B6-C5B8-4E3C-B53A-84DE821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4BF-774F-47F7-A7AE-777ECD3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A2A7-1AE3-4D9E-9FD6-B8F3C488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1EF8-F336-42CC-9988-508AB392E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98D3-3E51-4955-82DE-A181D5B3C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24160" y="0"/>
          <a:ext cx="655776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0"/>
                    <a:ext cx="6557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ЧНОСТНЫЙ ПРОФИЛЬ БОЛЬНЫХ ЗА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026720"/>
            <a:ext cx="8569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 преморбиде таким больным присущи называемые анальные черты характера в виде: точности, аккуратности, пунктуальности, чувства долга. Об эмоциональной бедности больных колитом писал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Fain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51) 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Jores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81): «они не способны воспринимать и вербализовать эмоции и конфликты». Такие больные характеризуются как: нервозные, нетерпеливые, сверхчувствительные и легко ранимые люди, чья способность расслабиться и наслаждаться блокирована. Они склонны к поведению с элементами навязчивостей и ярко выраженным самоконтролем. Они стремятся к тесному общению с узким кругом людей, желая близости, признания и защищенности; с другой стороны, они хотели бы остаться независимым, поскольку очень тесная близость кажется им угрожающ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Такие больные опрятны, любят порядок, пунктуальны, свой гнев выражают весьма сдержанно. Для них характерны некоторые черты инфантильности, склонность к депрессиям, к подавлению своих агрессивных импульсов. Чрезмерно развито чувство обязательности. У них репутация человека дела. Александер полагает, что у таких личностей ключевым моментом является фрустрированная потребность своей зависимости. Больные чаще происходят из семей, в которых вообще мало говорят о чувствах. У них низкая самооценка, и они весьма чувствительны к собственным неудачам. Потеря отношений с ключевой фигурой переживается бессознательно больными как угроза собственному суще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ДИ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75080"/>
            <a:ext cx="86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аще возникает при внезапном испуге, напряженном ожидании чего-ли­бо и других ситуациях, вызывающих чувство острой тревоги и душевного дискомфорта. Учащение дефекации до 5-10 и более раз в сутки сопутствует жалобам на приступы сердцебиений в покое, боль в левой половине грудной клетки, головокружение, потливость, тошноту и другие соматиче­ские признаки психовегетативной дисфункции. Абдоминальные алгии и вегетативно-сосудистые нарушения нередко усиливаются после еды, усугубляя страх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Абдоминальные алгии и вегетативно-сосудистые нарушения нередко усиливаются после еды, усугубляя и без того уже почти нескрываемый страх приема пищи, и отличаются известной причудливостью и независимостью от рациона. У ряда больных с «легко ранимым кишечником» и гастроинтестинальными страхами повышен так называемый желудочно-кишечный рефлекс – императивный позыв к дефекации возникает после каждого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Хронические невротические поносы, длятся годами и не поддаются диетическому лечению и требуют психотропной терап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лабость, чувство постоянной усталости, похудание на 10-20 кг, раздражительность, парестезии, артралгии и миалгии, нарушения менструального цикла или развивающаяся импотенция, трофические расстройства (сухость кожи, ломкость ногтей и т. д.) и кожные высыпания, сосудистая дистония и всевозможные висцеро-вегетативные проявления, рассматриваемые как симптомы атипичного энтерита, абсолютно идентичны клинической картине соматизированно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дром раздраженной толстой киш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228320"/>
            <a:ext cx="7993080" cy="40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впервые описал J. Da Costa в 1871 г. в рамках «мукозного энтерита». Термин «синдром раздраженной толстой кишки», предложил H. Bockus в 192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ология: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всего населения страдает симптомами СРТК в те или иные периоды жизни  (D.A. Drossman, 1994). СРТК - наиболее частая форма патологии в гастроэнтерологической практике: на его долю приходится до 11% от всех диагнозов, устанавливаемых гастроэнтерологами (J. Richter, 1989). В большинстве случаев СРТК развивается в позднем подростковом и раннем взрослом возрасте, причем у женщин примерно в 2 раза чаще, чем у мужч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линические проявления СРТ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810720"/>
            <a:ext cx="813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арушения моторики кишечника – по типу запоров, диареи и смешанные варианты (перемежающиеся диарея и зап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Болевой синдром: абдоминалгии носят характер спастических болей, изолированных или эпизодически возникающих на фоне диффузных и стойких болевых ощущений в области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Отмечается преобладание невротических (тревожных) и аффективных (депрессивных) расстройств, протекающих с выраженными алгическими и вегетативными нарушениями (слабость, повышенная утомляемость, нервозность, головокружение, головные боли, тремор, боли в области спины, нарушения сна)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4. Преморбидные личностные особенности: ригидность, скрупулезность, утрированная склонностью к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более тяжелых случаях возможно развитие социальной дезадаптацией вплоть до полной утраты работоспособности и инвалидизации пациента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89000"/>
            <a:ext cx="3743280" cy="216036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Психогенная дизур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 – проявляется в виде «настойчивой потребности мочиться» и сопровождается  вегетативно-сосудистыми симптомами: озноб, похолодание кистей и стоп или ощущение жара, бледность кожных покровов. Тревога и страх больных за свое состояние становятся объектом ипохондрической фиксации.В основе психогенного недержания мочи лежит снижение чувствительности мочевого пузыря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653000"/>
            <a:ext cx="2736720" cy="1440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Уретральная ипохондрия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- неприятные и тягостные ощущения в области уретры и половых органах, сочетающиеся с различными психофеномен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645000"/>
            <a:ext cx="3672000" cy="302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Нефроптоз -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тяжесть и ноющая боль в поясничной области, в  животе, нарастающая в вертикальном положении и при движении, ощущение перемещения или перекатывания в брюшной полости какого-то тяжелого предмета, сочетание со всевозможными диспепсическими расстройствами (анорексией, изжогой, отрыжкой, чувством давления в эпигастрии, упорным метеоризмом, запорами и т. д.), головной болью, нарушениями сна и нередко неинфекционным субфебрилитет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333360"/>
            <a:ext cx="3132000" cy="266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Цисталг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- повышенная чувствительность при пальпации мочевого пузыря, болезненные ощущения в этой области и поллакиурия с императивными позывами к мочеиспусканию, возникающими даже при незначительном заполнении мочевого пузыря. Существует прямая зависимость цисталгии от психической травмы и особенности психического статуса боль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637000"/>
            <a:ext cx="2808360" cy="187308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ИЧЕСКИЕ МАСКИ ДЕП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79640" y="4437000"/>
            <a:ext cx="936720" cy="216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349360"/>
            <a:ext cx="1295640" cy="432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03640" y="2565000"/>
            <a:ext cx="1081080" cy="35892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437000"/>
            <a:ext cx="720720" cy="36036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офиль личности больных с урологическими рас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931680"/>
            <a:ext cx="8642160" cy="566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асто не придают серьезного значения физическим потребностям и праву на их удовлетворение. Отсутствие времени, чтобы сходить в туалет: прежде всего - работа. Сознательно ограничивается потребление жидкости, чтобы не было необходимости часто «исчез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теснение: невротические жалобы на невозможность мочеиспускания в присутствии посторонних сочетаются с частым и болезненным мочеиспуск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Брезгливость: опасения перед грязью в чужих туа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Недостаточная открытость-честность: не хочется, чтобы посторонние заподозрили слабость мочевого пуз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Вежливость: нежелание помешать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В профессиональной сфере: активность, желание чего-то добиться, иметь успе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В сфере контактов чрезвычайно сдержанны, в отличие от других людей, они очень скованны и неувер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Преобладает лабильное, преимущественно тревожное настроение с опасениями неуспеха и склонностью к депресс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 Воспитание и установки: родители таких пациентов очень высоко ценили чистоплотность и достижения. Функция выделения принадлежит половым органам и, таким образом, вследствие строгого, враждебного отношения к телу и морализирующего воспитания, мочеиспускание бессознательно связывалось с чем-то запретным и переживалось противоречиво. Тот, у кого слабый мочевой пузырь, нередко считается слабым или незрелым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нкета Кельголь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65200"/>
            <a:ext cx="83516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Доставляет ли Вам жизнь чувство удовле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Сохранился ли интерес к привычным занятиям и увле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начинать новое дело?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несвойственная Вам утомляемость и слабость и как она меняется в течени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о тревоги, напряженности и беспричинного беспок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Вам принимать реш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нарушился ли 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беспокоит ли боль или чувство стеснения в гру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изменился ли аппетит и Ваш в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т ли нарушений в половой сфере (менструальном цикл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вялость, пассивность, несвойственное Вам желание сидеть без д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а бесполез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3800" y="291960"/>
            <a:ext cx="74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ТЕМА ЛЕКЦИИ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СИХОФЕНОМЕ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ВНЫХ СОСТОЯ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989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4396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от лат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ressio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- подавление, угнетение) – аффективное состояние, характеризующееся сниженным настроением, идеаторной и моторной заторможенностью (триада Крепелина), а также соматовегетативными дисфунк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деаторный компонент триады Крепелина: изменение скорости течения ассоциаций - ассоциации замедлены и структурно упрощены; больные жалуются на тупость, безмыслие, потерю памяти; речь становится лаконичной, элементарной с длительными паузами. Речь замедленная, лишена эмоциональных отт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оторно - волевой компонент триады Креп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1) Гипобулия - ослабление побуждений к деятельности и общее снижение активности. Снижение влечений: пищевого и полового (импотенция, фригидность, аноргазмия). Утрате аппетита сопутствует отвращение к виду, запаху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) Депрессивное невербальное поведение - поза больных в положении стоя с фиксацией или поза раздумья. Углы рта опущены, печальные брови, складка Вергаута (кожная складка верхнего века и бровь на границе внутренней и средней трети оттягиваются кверху и образуют угол, что придает лицу особенно печальное выражение). Голос тихий, паузы продолжительные, угасающая речь, тон голоса низкий. Улыбка печальная и скорбная, мимика страдания, боли, жесты задумчивости, покорности, смущения, гортанное покашливание. Локомоция с замедленным темпом похо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5564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МАТИЗИРОВАННАЯ ДЕП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34136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 algn="just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12280"/>
            <a:ext cx="77752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скированная депрессия (туманная, скрытая, ларвированная) - характеризуется полным или частичным отсутствием депрессивной триады (снижение настроения, идеаторная и моторная заторможенность) и разнообразными соматическими расстр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Большая распространенность маскированной депрессии (МД) обусловлена трудностью диагностики и ятрогенным фа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 женщин встречается в три раза чаще, чем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меет большое социальное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редний возраст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сокий суицидальный риск (в 7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рудность диагнос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линические проявления маскированной деп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78640"/>
            <a:ext cx="7993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тройства сна (агрепническая м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 маскированной депрессии расстройства сна могут быть ведущими, а порой и единственными проявлениями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нсомния является одной из главных составляющих триады нарушений цикла сон-бодрствование, включающих также гиперсомнию и парасомнию. Инсомния определяется как состояние затрудненного начала сна и его поддержания, нередко в сочетании с дневной слабостью, разбитостью, сниженной работоспособностью и сонлив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вышенная дневная сонливость может отмечаться у практически здоровых лиц при психофизиологической гиперсомнии. Данное расстройство характеризуется хорошим ночным сном при недостаточной длительности и проявляется жалобами на дневную сонливость, невыспанность, жалобами астенического круга. Причинами повышенной дневной сонливости могут быть различные стрессы, наличие недостатка ночного сна при повышенной потребности во 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рушения сна при депрессии характеризуются сокращением длительность дельта - сна, особенно 4-й стадии сна, продолжительность регистрации дельта волн уменьшается, снижается их интен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бдоминальные эквиваленты депрессивных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981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597120"/>
            <a:ext cx="8424720" cy="3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836640"/>
            <a:ext cx="7993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ор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нижение аппетита, вплоть до полного отказа пищи, что приводит к развитию тяжелых вторичных соматоэндокринных сдвигов. Сопровождается трофическими нарушениями со стороны кожных покровов (сухость кожи, тусклость и ломкость ногтей). Больные быстро мерзнут, отмечается выпадение волос и разруш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Значительное похудание нередко вплоть до кахексии приводит к наступлению аменореи как одного из основных клинических проявлений, развивающихся при хронической пищевой недостато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 больных уменьшается количество подкожной жировой клетчатки, нарастают дистрофические изменения кожи, мышц, развивается миокардиодистрофия, а также имеют место брадикардия, гипотония, акроцианоз, снижение температуры тела, уменьшается содержание сахара в крови, появляются признаки ане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едущее место в клинической картине занимает астенический синдром с преобладанием адинамии и повышенной истощае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основе - закрепляющейся в последующем по условно-рефлекторным механизмам, лежит достаточно выраженная, хотя бы и кратковременная, депрессивная реакция с оттенком острого неприятия реальной действительности. Особое значение для «выбора» именно этого физиологического феномена как способа выражения эмоций получают психотравмирующие факторы, непосредственно сопряженные с самой едой или приготовлением пищи (например, уход за умирающим от рака желудка). Непосредственной причиной тошноты и рвоты могут быть не только чувство гнева, боли, страха, печали, тоски и отвращения, но и необычайная радость, т. е. любая эмоция, если она проявляется достаточно интенсив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тошнота и рвота развиваются у эмоционально нестабильных лиц.  В ряде случаев тошнота и рвота представляют собой по существу стандартный для данного организма, хотя и несколько своеобразный, способ выражения эмоции, закрепившийся по типу патологического рефлек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рвота сочетается с другими симптомами аффективных нарушений: расстройствами сна и аппетита, похуданием, сухостью во рту и повышенной жаждой, кардиалгиями и сердцебиением в покое, головокружени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2254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ошнота идентифицируется с представлениями, отражающими крайнюю степень органического неприятия, отвращения к чему-либо. Психогенная тошнота - это, прежде всего страх («низкий страх, идущий прямо от кишок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анера изложения жалоб свидетельствует об аффективном происхождении симптома. Тягостное ощущение тошноты (или «легкого поташнивания») локализуется чаще всего в верхней части грудной клетки, «у горла» или «идет от живота»; оно особенно томительно по утрам; усиливается при волнении, резких колебаниях метеорологических условий или быстром переходе из горизонтального положения в вертикальное; исчезает под воздействием положительных эмоций, при отвлечении внимания больного или спонтанном повышении настроения во второй половине дня. Появлению тошноты предшествует обычно более или менее отчетливое снижение настроения с чувством нарастающей усталости, физического и душевного дискомфорта, расстройствами сна и аппет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Эмотивная рвота возникает преимущественно по утрам до, во время или непосредственно после еды (порой буквально после первых же глотков); не зависит от количества и качества съед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ональные зап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2254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лстая кишка дифференцированно реагирует на эмоционально-стрессовые ситуации. Депрессивные тенденции приводят к снижению функции толстой кишки, страх и тревога - к повышению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ронические запоры могут быть обусловлены не только игнорированием позывов к дефекации (при ощущении крайней усталости) или их притуплением, но и психогенной анорексией. Анорексия снижает двигательную активность кише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ажную роль в развитии привычных запоров играют также резкое самоограничение объема выпиваемой за день жидкости и злоупотребление некоторыми медикаментами (снотворными и транквилизаторами). Как при спастическом, так и атоническом запоре спонтанная дефекация может отсутствовать на протяжении одной и даже двух недель. Больные испытывают при этом неприятные ощущения (давления, полноты, распирания, урчания, переливания) в нижних отделах живота, что ложится в основу ипохондрической фиксации индивида. Больные, не удовлетворенные выделительной функцией своего кишечника, могут проводить в туалете по несколько часов в сутки и ставить себе ежедневно от 1 до 8 клизм. Известны случаи, когда больные доводят себя до кровотечений и выпадения прямой кишки, механически раздражая анальную область для достижения более полной дефе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59:22Z</dcterms:created>
  <dc:creator>Viktor</dc:creator>
  <dc:description/>
  <dc:language>en-US</dc:language>
  <cp:lastModifiedBy>Ирина</cp:lastModifiedBy>
  <dcterms:modified xsi:type="dcterms:W3CDTF">2004-12-01T18:02:39Z</dcterms:modified>
  <cp:revision>172</cp:revision>
  <dc:subject/>
  <dc:title>Слайд 1</dc:title>
</cp:coreProperties>
</file>